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move the slide</a:t>
            </a:r>
            <a:endParaRPr b="1" lang="en-US" sz="4000" spc="-1" strike="noStrike">
              <a:solidFill>
                <a:srgbClr val="595959"/>
              </a:solidFill>
              <a:latin typeface="Franklin Gothic Book"/>
            </a:endParaRPr>
          </a:p>
        </p:txBody>
      </p:sp>
      <p:sp>
        <p:nvSpPr>
          <p:cNvPr id="4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lan Nacional para el Manejo Integral del Bosque (2008)</a:t>
            </a:r>
            <a:endParaRPr b="0" lang="en-US" sz="15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1. </a:t>
            </a:r>
            <a:r>
              <a:rPr b="0" lang="es-ES" sz="1300" spc="-1" strike="noStrike">
                <a:solidFill>
                  <a:srgbClr val="000000"/>
                </a:solidFill>
                <a:latin typeface="Calibri"/>
              </a:rPr>
              <a:t>reconoce las múltiples funciones de los bosques y tiene como objetivo mejorar su contribución al bienestar de los usuarios del bosque, principalmente de los más pobres, a mejorar la contribución de los bosques al desarrollo económico con una distribución más equitativa de los beneficios económicos, y garantizar la conservación de los bosques para asegurar la provisión de bienes y servicios ambientales de los mismos, en la perspectiva de disminuir los crecientes riesgos originados por el cambio climático</a:t>
            </a:r>
            <a:endParaRPr b="0" lang="en-US" sz="13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Nueva Constitución Política del Estado (2009)</a:t>
            </a:r>
            <a:endParaRPr b="0" lang="en-US" sz="10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1. Es deber del Estado y de la población conservar, proteger y aprovechar de manera sustentable los recursos naturales y la biodiversidad, así como mantener el equilibrio del medio-ambient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2. Los bosques naturales y los suelos forestales son de importancia estratégica para el desarrollo del pueblo boliviano. El Estado promoverá las actividades de conservación y aprovechamiento sustentable, la generación de valor agregado a sus productos, la rehabilitación y reforestación de áreas degradada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3. </a:t>
            </a:r>
            <a:r>
              <a:rPr b="0" lang="es-ES" sz="900" spc="-1" strike="noStrike">
                <a:solidFill>
                  <a:srgbClr val="000000"/>
                </a:solidFill>
                <a:latin typeface="Calibri"/>
              </a:rPr>
              <a:t>el Estado priorizará el desarrollo integral sustentable de la amazonia boliviana, a través de una administración integral, participativa, compartida y equitativa de la selva amazónica. La administración estará orientada a la generación de empleo y a mejorar los ingresos para sus habitantes, en el marco de la protección y sustentabilidad del medio-ambient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El programa UNREDD obviamente se desarrolla dentro de este contexto</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Programa liderado por el gobierno</a:t>
            </a:r>
            <a:endParaRPr b="0" lang="en-U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omité político: </a:t>
            </a:r>
            <a:r>
              <a:rPr b="0" lang="es-CL" sz="1200" spc="-1" strike="noStrike">
                <a:solidFill>
                  <a:srgbClr val="000000"/>
                </a:solidFill>
                <a:latin typeface="Calibri"/>
              </a:rPr>
              <a:t>Vice ministerios y Ministerios según su pertinencia; Prefecturas y Municipios; Organizaciones sociales. </a:t>
            </a:r>
            <a:r>
              <a:rPr b="0" lang="es-ES" sz="1200" spc="-1" strike="noStrike">
                <a:solidFill>
                  <a:srgbClr val="000000"/>
                </a:solidFill>
                <a:latin typeface="Calibri"/>
              </a:rPr>
              <a:t>planificación estatal + </a:t>
            </a:r>
            <a:r>
              <a:rPr b="0" lang="es-CL" sz="1200" spc="-1" strike="noStrike">
                <a:solidFill>
                  <a:srgbClr val="000000"/>
                </a:solidFill>
                <a:latin typeface="Calibri"/>
              </a:rPr>
              <a:t>Nivel consultivo y propositivo que guía la construcción de las líneas estratég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omité técnico: </a:t>
            </a:r>
            <a:r>
              <a:rPr b="0" lang="es-CL" sz="1200" spc="-1" strike="noStrike">
                <a:solidFill>
                  <a:srgbClr val="000000"/>
                </a:solidFill>
                <a:latin typeface="Calibri"/>
              </a:rPr>
              <a:t>Equipos técnicos de los Vice ministerios, Prefecturas y municipios; Universidades estatales y sus institutos de investigación; Equipos técnicos de las organizaciones sociales </a:t>
            </a:r>
            <a:r>
              <a:rPr b="0" lang="es-ES" sz="1200" spc="-1" strike="noStrike">
                <a:solidFill>
                  <a:srgbClr val="000000"/>
                </a:solidFill>
                <a:latin typeface="Calibri"/>
              </a:rPr>
              <a:t>(CIDOB, CONAMAQ, BARTOLINA, CSUTCB,  COLONISADORES). </a:t>
            </a:r>
            <a:r>
              <a:rPr b="0" lang="es-CL" sz="1200" spc="-1" strike="noStrike">
                <a:solidFill>
                  <a:srgbClr val="000000"/>
                </a:solidFill>
                <a:latin typeface="Calibri"/>
              </a:rPr>
              <a:t>Nivel de consulta específica y propositiva ante el comité polít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ice ministerio Medio Ambiente, Biodiversidad y Cambio Climático (Ministerio de Medio Ambiente y A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VM </a:t>
            </a:r>
            <a:r>
              <a:rPr b="0" lang="es-ES" sz="1200" spc="-1" strike="noStrike">
                <a:solidFill>
                  <a:srgbClr val="000000"/>
                </a:solidFill>
                <a:latin typeface="Calibri"/>
              </a:rPr>
              <a:t>de Gestión y Desarrollo Forestal (Ministerio de Desarrollo Rural y Tierr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5 sub-grupos: consultas, monitoreo, estrategia, escenario, legislació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brayar que las organizaciones sociales pueden tener un impacto sobre el proceso y las priorizaciónes através de las comit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REDD = 4.4 millones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CPF = 4 millones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TZ coop tecn = 2 millones Euros + FkW coop financiera = 8 millones de Euro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participación y la inclusión se encuentran entre los principios de derechos humanos que guían el trabajo de las Naciones Unidas a todos los niveles. Estos principios incluyen la participación plena y efectiva en, contribución al y disfrute en el desarrollo de los derechos civiles, económicos, sociales, culturales y político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directrices operativas de UN-REDD reconocen que “el respeto a los derechos de los pueblos indígenas y otras comunidades dependientes de los bosques es vital para que el Programa ONU‐REDD lleve a cabo sus actividades. La participación de estos como socios puede contribuir con el Programa, así como beneficiar sus actividades tanto a nivel nacional como internacion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asociados del programa ONU‐REDD, el PNUD, el PNUMA y la FAO derivan sus mandatos para la acción con los Pueblos Indígenas de la Carta de las Naciones Unida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Calibri"/>
              </a:rPr>
              <a:t>Representació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1) Los Pueblos Indígenas serán representados en la Junta Normativa de ONU-REDD por el Presidente del Foro Permanente de las Naciones Unidas para las Cuestiones Indígenas, o su designado, y por tres observadores de los pueblos indígenas que representen a cada una de las tres regiones: África, Asia y el Pacifico, y América Latina y el Carib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2) El Presidente del Foro Permanente para las Cuestiones Indígenas será un miembro pleno e igual de la Junta Normativa del Programa ONU‐REDD, la cual estará en la capacidad de guiar el Programa ONU‐REDD, así como orientar sus contenidos, consultando a los tres observadores de pueblos indígen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3) Los pueblos indígenas y otras personas dependientes de los bosques serán invitados a participar junto al Grupo Asesor de la Sociedad Civil Independiente del Programa ONU‐REDD, encargado de supervisar las actividades y prestar asesoramiento a la Junta Normativa del Programa ONU‐REDD.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Calibri"/>
              </a:rPr>
              <a:t>Transparencia y Acceso a la Informació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4) El Programa ONU‐REDD publicara informes de las reuniones y los documentos oficiales en el sitio web del Programa ONU‐RED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5) El Programa ONU‐REDD facilitara y apoyara el desarrollo de cartillas y materiales de orientación para fortalecer la capacidad de los pueblos indígenas de integrarse a REDD y, cuando sea apropiado, participar efectivamente en la toma de decisiones y actividad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6) El Programa ONU‐REDD participara en conferencias y cumbres internacionales con enfoque en los pueblos indígenas y otros comunidades dependientes de los bosques, el cambio climático y REDD, para presentar informes sobre las actividades del programa y mantener los canales de comunicación abiertos a una amplia inclusión de pueblos Indígenas interesado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Calibri"/>
              </a:rPr>
              <a:t>Inclusión y participació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7) El Programa ONU‐REDD proporcionara foros para plantear cuestiones de interés a los Pueblos Indígenas y otras comunidades dependientes de los bosques, los cuales serán presentados e integrados en el proceso de negociación internacional sobre REDD.</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700" spc="-1" strike="noStrike">
                <a:solidFill>
                  <a:srgbClr val="000000"/>
                </a:solidFill>
                <a:latin typeface="Calibri"/>
              </a:rPr>
              <a:t>Representació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1) Los pueblos indígenas y/o otras comunidades dependientes de los bosques estarán representados en los Comités Directivos Nacionales REDD u órganos equivalentes, donde estos estén establecido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700" spc="-1" strike="noStrike">
                <a:solidFill>
                  <a:srgbClr val="000000"/>
                </a:solidFill>
                <a:latin typeface="Calibri"/>
              </a:rPr>
              <a:t>Participación e inclusió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2) A fin de ser endorsada por la Secretaria Técnica de ONU‐REDD para su aprobación en la Junta Normativa del Programa ONU‐REDD, el Proyecto de Programas Nacionales debe presentar las actas de una "reunión de validación" con los Actores Nacionales (donde establecido: Comité Nacional Directivo REDD), incluyendo representante(s) de los Pueblos Indígena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3) La "reunión de validación” será parte de una amplia estrategia de consulta y participación que debe ser documentada en un anexo del Documento del Program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4) La consulta y estrategia de responsabilidad social del Programa Nacional debe, de manera efectiva, incluir los Pueblos Indígenas y otras comunidades dependientes de los bosques, y organizaciones de la sociedad civil en todas la etapas, incluyendo el diseño de programas, implementación, monitoreo y evaluación, cumpliendo con los mismos principios rectores. En los países que también están desarrollando programas en el marco del Mecanismo de Asociación para Carbono Forestal (FCPF), es alentador que el Programa ONU‐REDD y FCPF emprenden un proceso de consulta de colaboración.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5) Los Programas Nacionales deben incluir actividades y recursos para proveer continuo apoyo a la consulta, la participación y colaboración y así garantizar que las actividades nacionales de ONU‐REDD tomen en cuenta las prioridades y preocupaciones expresadas por los representantes de los pueblos indígenas y otras comunidades dependientes de los bosqu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6) Los Programas Nacionales evaluaran el impacto de las actividades del Programa ONU‐REDD con respecto a los derechos de los Pueblos Indígenas y otras comunidades dependientes de los bosques, tal y como se establece en la Declaración de las Naciones Unidas sobre los Derechos de los Pueblos Indígenas, antes de tomar decisiones sobre tales actividades, siguiendo estrictamente los procedimientos del FPI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700" spc="-1" strike="noStrike">
                <a:solidFill>
                  <a:srgbClr val="000000"/>
                </a:solidFill>
                <a:latin typeface="Calibri"/>
              </a:rPr>
              <a:t>Transparencia y Rendición de Cuent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7) Los documentos resultantes de las consultas, como las actas de reuniones, informes y planes de trabajo deben ser distribuidos a las organizaciones de los Pueblos Indígenas para evaluar su precisión; también deben ser accesibles al publico y reflejar, según proceda, i) en los documentos de los Programas Nacionales, ii) en el sitio web del ONU‐REDD y presentados anualmente a la Junta Normativ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8) El Coordinador Residente debe distribuir informes anuales sobre las actividades del Programa ONU‐REDD a los Pueblos Indígenas y la Sociedad Civil a través de las redes de los Pueblos Indígenas y otras comunidades dependientes de los bosques representadas en el Comité Directivo  nacional del ONU‐REDD a fin de garantizar transparencia y rendición de cuent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9) El Coordinador Residente es responsable de asegurar que los Programas Nacionales se rigan por las Normas y Declaraciones de la ONU. Como garantía adicional, un mecanismo de denuncia (que se ha de elaborar con mas detalle y basarse en los mecanismos de reclamación, donde existen) será establecido por la Secretaria Técnica para asegurarse que las actividades apoyadas por el Programa ONU‐REDD no resulten en violaciones o menoscabo de los derechos de los pueblos indígenas y otras comunidades dependientes de los bosques. El procedimiento y la información de contacto para la presentación de denuncias se publicaran en el sitio web del Programa ONU‐REDD.</a:t>
            </a:r>
            <a:endParaRPr b="0" lang="en-US" sz="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8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7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2"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4"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3"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71"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6"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8"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9"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7"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5"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6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0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hyperlink" Target="mailto:un-redd@un-redd.org" TargetMode="External"/><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8" name="Rectangle 3"/>
          <p:cNvSpPr/>
          <p:nvPr/>
        </p:nvSpPr>
        <p:spPr>
          <a:xfrm flipV="1">
            <a:off x="14292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2"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394" name="Title 1"/>
          <p:cNvSpPr/>
          <p:nvPr/>
        </p:nvSpPr>
        <p:spPr>
          <a:xfrm>
            <a:off x="4179960" y="3871800"/>
            <a:ext cx="4014720" cy="154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4"/>
              </a:rPr>
              <a:t>un-</a:t>
            </a:r>
            <a:r>
              <a:rPr b="0" lang="en-US" sz="2400" spc="-1" strike="noStrike" u="sng">
                <a:solidFill>
                  <a:srgbClr val="ff8119"/>
                </a:solidFill>
                <a:uFillTx/>
                <a:latin typeface="Franklin Gothic Book"/>
                <a:hlinkClick r:id="rId5"/>
              </a:rPr>
              <a:t>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395" name="Rectangle 10"/>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For more information…</a:t>
            </a:r>
            <a:endParaRPr b="0" lang="en-US" sz="4000" spc="-1" strike="noStrike">
              <a:solidFill>
                <a:srgbClr val="000000"/>
              </a:solidFill>
              <a:latin typeface="Arial"/>
            </a:endParaRPr>
          </a:p>
        </p:txBody>
      </p:sp>
      <p:sp>
        <p:nvSpPr>
          <p:cNvPr id="3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9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3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8"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440" name="Rectangle 9"/>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Thank you for listening!</a:t>
            </a:r>
            <a:endParaRPr b="0" lang="en-US" sz="4000" spc="-1" strike="noStrike">
              <a:solidFill>
                <a:srgbClr val="000000"/>
              </a:solidFill>
              <a:latin typeface="Arial"/>
            </a:endParaRPr>
          </a:p>
        </p:txBody>
      </p:sp>
      <p:sp>
        <p:nvSpPr>
          <p:cNvPr id="4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4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Documents and Settings\Isabelle\Desktop\UNEP\UN-REDD Programme Communication Strategy\Logos\Low Res Logos\FAO,UNEP and UNDP logos.jpg"/>
          <p:cNvPicPr/>
          <p:nvPr/>
        </p:nvPicPr>
        <p:blipFill>
          <a:blip r:embed="rId2"/>
          <a:stretch/>
        </p:blipFill>
        <p:spPr>
          <a:xfrm>
            <a:off x="6649920" y="5742000"/>
            <a:ext cx="2043360" cy="803160"/>
          </a:xfrm>
          <a:prstGeom prst="rect">
            <a:avLst/>
          </a:prstGeom>
          <a:ln w="0">
            <a:noFill/>
          </a:ln>
        </p:spPr>
      </p:pic>
      <p:sp>
        <p:nvSpPr>
          <p:cNvPr id="4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6"/>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2" name="Rectangle 7"/>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 name="Freeform 8"/>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Documents and Settings\Isabelle\Desktop\UNEP\UN-REDD Programme Communication Strategy\Logos\Low Res Logos\UN-REDD logo.jpg"/>
          <p:cNvPicPr/>
          <p:nvPr/>
        </p:nvPicPr>
        <p:blipFill>
          <a:blip r:embed="rId3"/>
          <a:stretch/>
        </p:blipFill>
        <p:spPr>
          <a:xfrm>
            <a:off x="450720" y="339840"/>
            <a:ext cx="2360880" cy="1014120"/>
          </a:xfrm>
          <a:prstGeom prst="rect">
            <a:avLst/>
          </a:prstGeom>
          <a:ln w="0">
            <a:noFill/>
          </a:ln>
        </p:spPr>
      </p:pic>
      <p:sp>
        <p:nvSpPr>
          <p:cNvPr id="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83" name="Rectangle 3"/>
          <p:cNvSpPr/>
          <p:nvPr/>
        </p:nvSpPr>
        <p:spPr>
          <a:xfrm flipV="1">
            <a:off x="2422440" y="118800"/>
            <a:ext cx="6615360" cy="662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6"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7" name="Freeform 7"/>
          <p:cNvSpPr/>
          <p:nvPr/>
        </p:nvSpPr>
        <p:spPr>
          <a:xfrm flipH="1">
            <a:off x="499320" y="3506760"/>
            <a:ext cx="8358120" cy="2142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89" name="Picture 3" descr="F:\low res images\Biodiversity---Frog.jpg"/>
          <p:cNvPicPr/>
          <p:nvPr/>
        </p:nvPicPr>
        <p:blipFill>
          <a:blip r:embed="rId3"/>
          <a:stretch/>
        </p:blipFill>
        <p:spPr>
          <a:xfrm>
            <a:off x="81000" y="5218200"/>
            <a:ext cx="2286000" cy="1581120"/>
          </a:xfrm>
          <a:prstGeom prst="rect">
            <a:avLst/>
          </a:prstGeom>
          <a:ln w="0">
            <a:noFill/>
          </a:ln>
        </p:spPr>
      </p:pic>
      <p:pic>
        <p:nvPicPr>
          <p:cNvPr id="90" name="Picture 8" descr="F:\low res images\Technical-Capacity-Building.jpg"/>
          <p:cNvPicPr/>
          <p:nvPr/>
        </p:nvPicPr>
        <p:blipFill>
          <a:blip r:embed="rId4"/>
          <a:stretch/>
        </p:blipFill>
        <p:spPr>
          <a:xfrm>
            <a:off x="92160" y="1785960"/>
            <a:ext cx="2286000" cy="1647720"/>
          </a:xfrm>
          <a:prstGeom prst="rect">
            <a:avLst/>
          </a:prstGeom>
          <a:ln w="0">
            <a:noFill/>
          </a:ln>
        </p:spPr>
      </p:pic>
      <p:pic>
        <p:nvPicPr>
          <p:cNvPr id="91" name="Picture 12" descr="C:\Documents and Settings\Isabelle\Desktop\UNEP\UN-REDD Programme Communication Strategy\UNEP Pictures\High Resolution Images\Low Res iStock_copy.JPG"/>
          <p:cNvPicPr/>
          <p:nvPr/>
        </p:nvPicPr>
        <p:blipFill>
          <a:blip r:embed="rId5"/>
          <a:stretch/>
        </p:blipFill>
        <p:spPr>
          <a:xfrm>
            <a:off x="92160" y="76320"/>
            <a:ext cx="2286000" cy="1647720"/>
          </a:xfrm>
          <a:prstGeom prst="rect">
            <a:avLst/>
          </a:prstGeom>
          <a:ln w="0">
            <a:noFill/>
          </a:ln>
        </p:spPr>
      </p:pic>
      <p:pic>
        <p:nvPicPr>
          <p:cNvPr id="92" name="Picture 2" descr="C:\Documents and Settings\Isabelle\Desktop\UNEP\UN-REDD Programme Communication Strategy\Logos\Low Res Logos\FAO,UNEP and UNDP logos.jpg"/>
          <p:cNvPicPr/>
          <p:nvPr/>
        </p:nvPicPr>
        <p:blipFill>
          <a:blip r:embed="rId6"/>
          <a:stretch/>
        </p:blipFill>
        <p:spPr>
          <a:xfrm>
            <a:off x="6649920" y="5742000"/>
            <a:ext cx="2043360" cy="803160"/>
          </a:xfrm>
          <a:prstGeom prst="rect">
            <a:avLst/>
          </a:prstGeom>
          <a:ln w="0">
            <a:noFill/>
          </a:ln>
        </p:spPr>
      </p:pic>
      <p:pic>
        <p:nvPicPr>
          <p:cNvPr id="93" name="Picture 3" descr="C:\Documents and Settings\Isabelle\Desktop\UNEP\UN-REDD Programme Communication Strategy\Logos\Low Res Logos\UN-REDD logo.jpg"/>
          <p:cNvPicPr/>
          <p:nvPr/>
        </p:nvPicPr>
        <p:blipFill>
          <a:blip r:embed="rId7"/>
          <a:stretch/>
        </p:blipFill>
        <p:spPr>
          <a:xfrm>
            <a:off x="6411960" y="246240"/>
            <a:ext cx="2360520" cy="1012680"/>
          </a:xfrm>
          <a:prstGeom prst="rect">
            <a:avLst/>
          </a:prstGeom>
          <a:ln w="0">
            <a:noFill/>
          </a:ln>
        </p:spPr>
      </p:pic>
      <p:sp>
        <p:nvSpPr>
          <p:cNvPr id="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9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32" name="Rectangle 3"/>
          <p:cNvSpPr/>
          <p:nvPr/>
        </p:nvSpPr>
        <p:spPr>
          <a:xfrm>
            <a:off x="2428920" y="1785960"/>
            <a:ext cx="664380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428920" y="71280"/>
            <a:ext cx="664380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35"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36"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37"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38"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40"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77"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180"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1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8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19"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221"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22"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24"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61"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263"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64"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6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03"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2422440" y="71280"/>
            <a:ext cx="657864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5"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sp>
        <p:nvSpPr>
          <p:cNvPr id="3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0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4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4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48"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3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5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22160" y="2060280"/>
            <a:ext cx="638964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595959"/>
                </a:solidFill>
                <a:latin typeface="Franklin Gothic Book"/>
              </a:rPr>
              <a:t>Avances de UN-REDD </a:t>
            </a:r>
            <a:br>
              <a:rPr sz="4000"/>
            </a:br>
            <a:r>
              <a:rPr b="1" lang="es-ES" sz="4000" spc="-1" strike="noStrike">
                <a:solidFill>
                  <a:srgbClr val="595959"/>
                </a:solidFill>
                <a:latin typeface="Franklin Gothic Book"/>
              </a:rPr>
              <a:t>en Bolivia</a:t>
            </a:r>
            <a:endParaRPr b="1" lang="en-US" sz="4000" spc="-1" strike="noStrike">
              <a:solidFill>
                <a:srgbClr val="595959"/>
              </a:solidFill>
              <a:latin typeface="Franklin Gothic Book"/>
            </a:endParaRPr>
          </a:p>
        </p:txBody>
      </p:sp>
      <p:sp>
        <p:nvSpPr>
          <p:cNvPr id="486" name="PlaceHolder 2"/>
          <p:cNvSpPr>
            <a:spLocks noGrp="1"/>
          </p:cNvSpPr>
          <p:nvPr>
            <p:ph/>
          </p:nvPr>
        </p:nvSpPr>
        <p:spPr>
          <a:xfrm>
            <a:off x="2563920" y="3786120"/>
            <a:ext cx="5271840" cy="571680"/>
          </a:xfrm>
          <a:prstGeom prst="rect">
            <a:avLst/>
          </a:prstGeom>
          <a:noFill/>
          <a:ln w="0">
            <a:noFill/>
          </a:ln>
        </p:spPr>
        <p:txBody>
          <a:bodyPr anchor="t">
            <a:normAutofit fontScale="7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2 de Febrero 2010</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rinidad</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95959"/>
                </a:solidFill>
                <a:latin typeface="Franklin Gothic Book"/>
              </a:rPr>
              <a:t>Comp. 1: Desarrollo de capacidades a nivel gubernamental…</a:t>
            </a:r>
            <a:endParaRPr b="1" lang="en-US" sz="3200" spc="-1" strike="noStrike">
              <a:solidFill>
                <a:srgbClr val="595959"/>
              </a:solidFill>
              <a:latin typeface="Franklin Gothic Book"/>
            </a:endParaRPr>
          </a:p>
        </p:txBody>
      </p:sp>
      <p:graphicFrame>
        <p:nvGraphicFramePr>
          <p:cNvPr id="504" name=""/>
          <p:cNvGraphicFramePr/>
          <p:nvPr/>
        </p:nvGraphicFramePr>
        <p:xfrm>
          <a:off x="258840" y="1806480"/>
          <a:ext cx="8656560" cy="4137120"/>
        </p:xfrm>
        <a:graphic>
          <a:graphicData uri="http://schemas.openxmlformats.org/drawingml/2006/table">
            <a:tbl>
              <a:tblPr/>
              <a:tblGrid>
                <a:gridCol w="5245200"/>
                <a:gridCol w="609480"/>
                <a:gridCol w="788760"/>
                <a:gridCol w="951120"/>
                <a:gridCol w="1062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articipación de las agencias UN-REDD y 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A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 Sistema de monitoreo, verificación y reporte forestal y de 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2 Escenario de refer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 Propuesta de ajustes al marco legal y normativo vinculado al tema RED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4 Sistema para la transferencia y distribución de ingresos RED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4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5 PNCC fortalecido y con recursos suficien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 Plan de Acción para la reducción de emisiones debidas a la DD (Plan RED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445840" y="131400"/>
            <a:ext cx="6543720" cy="1531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95959"/>
                </a:solidFill>
                <a:latin typeface="Franklin Gothic Book"/>
              </a:rPr>
              <a:t>Comp. 2: Desarrollo de capacidades a nivel local</a:t>
            </a:r>
            <a:endParaRPr b="1" lang="en-US" sz="3200" spc="-1" strike="noStrike">
              <a:solidFill>
                <a:srgbClr val="595959"/>
              </a:solidFill>
              <a:latin typeface="Franklin Gothic Book"/>
            </a:endParaRPr>
          </a:p>
        </p:txBody>
      </p:sp>
      <p:graphicFrame>
        <p:nvGraphicFramePr>
          <p:cNvPr id="506" name=""/>
          <p:cNvGraphicFramePr/>
          <p:nvPr/>
        </p:nvGraphicFramePr>
        <p:xfrm>
          <a:off x="239760" y="2373480"/>
          <a:ext cx="8656560" cy="2835000"/>
        </p:xfrm>
        <a:graphic>
          <a:graphicData uri="http://schemas.openxmlformats.org/drawingml/2006/table">
            <a:tbl>
              <a:tblPr/>
              <a:tblGrid>
                <a:gridCol w="5246640"/>
                <a:gridCol w="646200"/>
                <a:gridCol w="806400"/>
                <a:gridCol w="1003320"/>
                <a:gridCol w="954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articipación de las agencias UN-REDD y 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A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1 Programa de capacitación y difusión de acciones RE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 Programa de participación social en RE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3 Programas de fortalecimiento para la gestión y la investigación aplicada en RE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445840" y="131400"/>
            <a:ext cx="6543720" cy="1531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95959"/>
                </a:solidFill>
                <a:latin typeface="Franklin Gothic Book"/>
              </a:rPr>
              <a:t>Comp. 3: </a:t>
            </a:r>
            <a:r>
              <a:rPr b="0" lang="es-CL" sz="3200" spc="-1" strike="noStrike">
                <a:solidFill>
                  <a:srgbClr val="595959"/>
                </a:solidFill>
                <a:latin typeface="Franklin Gothic Book"/>
              </a:rPr>
              <a:t>Generación de experiencias REDD+ en el país. </a:t>
            </a:r>
            <a:endParaRPr b="1" lang="en-US" sz="3200" spc="-1" strike="noStrike">
              <a:solidFill>
                <a:srgbClr val="595959"/>
              </a:solidFill>
              <a:latin typeface="Franklin Gothic Book"/>
            </a:endParaRPr>
          </a:p>
        </p:txBody>
      </p:sp>
      <p:graphicFrame>
        <p:nvGraphicFramePr>
          <p:cNvPr id="508" name=""/>
          <p:cNvGraphicFramePr/>
          <p:nvPr/>
        </p:nvGraphicFramePr>
        <p:xfrm>
          <a:off x="230040" y="2422440"/>
          <a:ext cx="8656920" cy="1646280"/>
        </p:xfrm>
        <a:graphic>
          <a:graphicData uri="http://schemas.openxmlformats.org/drawingml/2006/table">
            <a:tbl>
              <a:tblPr/>
              <a:tblGrid>
                <a:gridCol w="5202360"/>
                <a:gridCol w="592200"/>
                <a:gridCol w="789120"/>
                <a:gridCol w="1056960"/>
                <a:gridCol w="1016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articipación de las agencias UN-REDD y 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A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NU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1 Marco metodológico estándar para implementar proyectos pilo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2 Programas y proyectos demostrativos RE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09"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UN-REDD y mas ampliamente el proceso REDD están teniendo avances significativos hasta ahora.</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Los PI contribuyen activamente de esta dinámica positiva y podrán recibir incentivos RED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PERO …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d0d0d"/>
                </a:solidFill>
                <a:uFillTx/>
                <a:latin typeface="Calibri"/>
              </a:rPr>
              <a:t>Estos incentivos dependen de los resultados</a:t>
            </a:r>
            <a:r>
              <a:rPr b="0" lang="es-ES" sz="2400" spc="-1" strike="noStrike">
                <a:solidFill>
                  <a:srgbClr val="0d0d0d"/>
                </a:solidFill>
                <a:latin typeface="Calibri"/>
              </a:rPr>
              <a:t>: las reducciones efectivas de emision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Para obtener reducciones efectivas y duraderas, será indispensable involucrar todos los actores vinculados con DD como por ejemplo las empresas agropecuarias  o los ministerios de tierras y de agricultura.</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0"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Conclusione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11" name=""/>
          <p:cNvSpPr txBox="1"/>
          <p:nvPr/>
        </p:nvSpPr>
        <p:spPr>
          <a:xfrm>
            <a:off x="285480" y="1856880"/>
            <a:ext cx="8715240" cy="4643640"/>
          </a:xfrm>
          <a:prstGeom prst="rect">
            <a:avLst/>
          </a:prstGeom>
          <a:noFill/>
          <a:ln w="0">
            <a:noFill/>
          </a:ln>
        </p:spPr>
        <p:txBody>
          <a:bodyPr anchor="t">
            <a:normAutofit/>
          </a:bodyPr>
          <a:p>
            <a:pPr marL="343080" indent="-343080" algn="ct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d0d0d"/>
                </a:solidFill>
                <a:latin typeface="Calibri"/>
              </a:rPr>
              <a:t>GRACIAS</a:t>
            </a:r>
            <a:endParaRPr b="0" lang="en-US" sz="4800" spc="-1" strike="noStrike">
              <a:solidFill>
                <a:srgbClr val="000000"/>
              </a:solidFill>
              <a:latin typeface="Calibri"/>
            </a:endParaRPr>
          </a:p>
        </p:txBody>
      </p:sp>
      <p:sp>
        <p:nvSpPr>
          <p:cNvPr id="512" name="PlaceHolder 1"/>
          <p:cNvSpPr>
            <a:spLocks noGrp="1"/>
          </p:cNvSpPr>
          <p:nvPr>
            <p:ph type="title"/>
          </p:nvPr>
        </p:nvSpPr>
        <p:spPr>
          <a:xfrm>
            <a:off x="2445840" y="131400"/>
            <a:ext cx="6543720" cy="15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87"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Plan Nacional para el Manejo Integral del Bosque (2008)</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Nueva Constitución Política del Estado (2009)</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Estrategia Nacional Bosque – Cambio Climático y de su componente REDD (COP15)</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Política ambiental (2010)</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Apoyo de 3 iniciativas complementarias: </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UN-REDD</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FCPF</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GTZ-KfW</a:t>
            </a:r>
            <a:endParaRPr b="0" lang="en-US" sz="2000" spc="-1" strike="noStrike">
              <a:solidFill>
                <a:srgbClr val="595959"/>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Contexto institucional -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89"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Comité político</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Comité técnico</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d0d0d"/>
                </a:solidFill>
                <a:latin typeface="Calibri"/>
              </a:rPr>
              <a:t>Comité Bi viceministerial: </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Vice ministerio Medio Ambiente, Biodiversidad y Cambio Climático </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Vice ministerio de Gestión y Desarrollo Forestal</a:t>
            </a:r>
            <a:endParaRPr b="0" lang="en-US" sz="2000" spc="-1" strike="noStrike">
              <a:solidFill>
                <a:srgbClr val="595959"/>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Equipo nacional REDD: 7 especialistas y 5 sub-grupo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Consultores internacionales (4 FCPF + </a:t>
            </a:r>
            <a:r>
              <a:rPr b="0" lang="fr-FR" sz="2400" spc="-1" strike="noStrike">
                <a:solidFill>
                  <a:srgbClr val="0d0d0d"/>
                </a:solidFill>
                <a:latin typeface="Calibri"/>
              </a:rPr>
              <a:t>1 GTZ + </a:t>
            </a:r>
            <a:r>
              <a:rPr b="0" lang="es-ES" sz="2400" spc="-1" strike="noStrike">
                <a:solidFill>
                  <a:srgbClr val="0d0d0d"/>
                </a:solidFill>
                <a:latin typeface="Calibri"/>
              </a:rPr>
              <a:t>1 UN-RED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Mecanismo de consultas con las organizaciones sociales: </a:t>
            </a:r>
            <a:r>
              <a:rPr b="0" lang="es-ES" sz="2400" spc="-1" strike="noStrike">
                <a:solidFill>
                  <a:srgbClr val="000000"/>
                </a:solidFill>
                <a:latin typeface="Calibri"/>
              </a:rPr>
              <a:t>(CIDOB, CONAMAQ, BARTOLINA, CSUTCB,  COLONISADORES) </a:t>
            </a:r>
            <a:endParaRPr b="0" lang="en-US" sz="2400" spc="-1" strike="noStrike">
              <a:solidFill>
                <a:srgbClr val="000000"/>
              </a:solidFill>
              <a:latin typeface="Calibri"/>
            </a:endParaRPr>
          </a:p>
        </p:txBody>
      </p:sp>
      <p:sp>
        <p:nvSpPr>
          <p:cNvPr id="490"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Gestión del proceso preparativo para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91"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Elaborar la Estrategia Bosque-CC y su componente RED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Coordinar los apoyos UN-REDD, FCPF, GTZ y otros actores, y elaborar los documentos necesarios.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Avances específicos UN-REDD</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Reunión de validación del PNC: 18/01/2010</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PNC al Secretariado + Junta Política: Febrero + Marzo 2010</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PNC firmado por RC y gobierno: Abril 2010</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95959"/>
                </a:solidFill>
                <a:latin typeface="Calibri"/>
              </a:rPr>
              <a:t>Taller de arranque: Mayo 2010</a:t>
            </a:r>
            <a:endParaRPr b="0" lang="en-US" sz="2000" spc="-1" strike="noStrike">
              <a:solidFill>
                <a:srgbClr val="595959"/>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Mandato y calendario del equipo nacional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93" name=""/>
          <p:cNvSpPr txBox="1"/>
          <p:nvPr/>
        </p:nvSpPr>
        <p:spPr>
          <a:xfrm>
            <a:off x="285480" y="1856880"/>
            <a:ext cx="8715240" cy="464364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d0d0d"/>
                </a:solidFill>
                <a:latin typeface="Calibri"/>
              </a:rPr>
              <a:t>Declaración de Naciones Unidas sobre los Derechos de los Pueblos Indígenas:</a:t>
            </a:r>
            <a:endParaRPr b="0" lang="en-US" sz="2000" spc="-1" strike="noStrike">
              <a:solidFill>
                <a:srgbClr val="000000"/>
              </a:solidFill>
              <a:latin typeface="Calibri"/>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95959"/>
                </a:solidFill>
                <a:latin typeface="Calibri"/>
              </a:rPr>
              <a:t>Art 19: Los Estados celebraran consultas y cooperaran de buena fe con los pueblos indígenas interesados por medio de sus instituciones representativas antes de adoptar y aplicar medidas legislativas o administrativas que los afecten, a fin de obtener su consentimiento libre, previo e informado.</a:t>
            </a:r>
            <a:endParaRPr b="0" lang="en-US" sz="1800" spc="-1" strike="noStrike">
              <a:solidFill>
                <a:srgbClr val="595959"/>
              </a:solidFill>
              <a:latin typeface="Calibri"/>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95959"/>
                </a:solidFill>
                <a:latin typeface="Calibri"/>
              </a:rPr>
              <a:t>Art 32 completa el art 19 precisando “… a fin de obtener su consentimiento libre e informado antes de aprobar cualquier proyecto que afecte a sus tierras o territorios y otros recursos, particularmente en relación con el desarrollo, la utilización o la explotación de recursos minerales, hídricos o de otro tipo…”</a:t>
            </a:r>
            <a:endParaRPr b="0" lang="en-US" sz="1800" spc="-1" strike="noStrike">
              <a:solidFill>
                <a:srgbClr val="595959"/>
              </a:solidFill>
              <a:latin typeface="Calibri"/>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Calibri"/>
              </a:rPr>
              <a:t>Art </a:t>
            </a:r>
            <a:r>
              <a:rPr b="0" lang="es-ES" sz="1800" spc="-1" strike="noStrike">
                <a:solidFill>
                  <a:srgbClr val="595959"/>
                </a:solidFill>
                <a:latin typeface="Calibri"/>
              </a:rPr>
              <a:t>42: Las Naciones Unidas, sus órganos, incluido el Foro Permanente para las Cuestiones Indígenas, y los organismos especializados, en particular a nivel local, así como los Estados, promoverán el respeto y la plena aplicación de las disposiciones de la presente Declaración y velaran por la eficacia de la presente Declaración.</a:t>
            </a:r>
            <a:endParaRPr b="0" lang="en-US" sz="1800" spc="-1" strike="noStrike">
              <a:solidFill>
                <a:srgbClr val="595959"/>
              </a:solidFill>
              <a:latin typeface="Calibri"/>
            </a:endParaRPr>
          </a:p>
        </p:txBody>
      </p:sp>
      <p:sp>
        <p:nvSpPr>
          <p:cNvPr id="494"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NNUU y pueblos indígenas: Participación y Inclusión</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95"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1. Todas las actividades del Programa ONU‐REDD deberán seguir un enfoque basado en los derechos humanos y adherirse a la Declaración de las Naciones Unidas sobre los Derechos de los Pueblos Indígena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2. El Consentimiento libre, previo e informado debe ser respetado.</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3. El Programa ONU‐REDD debe asegurarse que exista una amplia representación de los pueblos indígenas y otras comunidades dependientes de los bosques en todas las fases de sus actividades</a:t>
            </a:r>
            <a:endParaRPr b="0" lang="en-US" sz="2400" spc="-1" strike="noStrike">
              <a:solidFill>
                <a:srgbClr val="000000"/>
              </a:solidFill>
              <a:latin typeface="Calibri"/>
            </a:endParaRPr>
          </a:p>
        </p:txBody>
      </p:sp>
      <p:sp>
        <p:nvSpPr>
          <p:cNvPr id="496"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95959"/>
                </a:solidFill>
                <a:latin typeface="Franklin Gothic Book"/>
              </a:rPr>
              <a:t>3 Principios del Programa </a:t>
            </a:r>
            <a:r>
              <a:rPr b="0" lang="fr-FR" sz="2800" spc="-1" strike="noStrike">
                <a:solidFill>
                  <a:srgbClr val="595959"/>
                </a:solidFill>
                <a:latin typeface="Franklin Gothic Book"/>
              </a:rPr>
              <a:t>UN-REDD sobre los</a:t>
            </a:r>
            <a:r>
              <a:rPr b="0" lang="es-ES" sz="2800" spc="-1" strike="noStrike">
                <a:solidFill>
                  <a:srgbClr val="595959"/>
                </a:solidFill>
                <a:latin typeface="Franklin Gothic Book"/>
              </a:rPr>
              <a:t> Derechos de los Pueblos Indígenas</a:t>
            </a:r>
            <a:endParaRPr b="1" lang="en-US" sz="28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97"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Representació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Transparencia y Acceso a la Informació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Inclusión y participació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95959"/>
                </a:solidFill>
                <a:latin typeface="Franklin Gothic Book"/>
              </a:rPr>
              <a:t>Directrices para actividades a nivel global del Programa ONU - REDD</a:t>
            </a:r>
            <a:endParaRPr b="1" lang="en-US" sz="32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99"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Representació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Participación e inclusió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d0d0d"/>
                </a:solidFill>
                <a:latin typeface="Calibri"/>
              </a:rPr>
              <a:t>Transparencia y Rendición de Cuenta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0"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95959"/>
                </a:solidFill>
                <a:latin typeface="Franklin Gothic Book"/>
              </a:rPr>
              <a:t>Directrices para actividades a nivel nacional del Programa ONU - REDD</a:t>
            </a:r>
            <a:endParaRPr b="1" lang="en-US" sz="32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01"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d0d0d"/>
                </a:solidFill>
                <a:latin typeface="Calibri"/>
              </a:rPr>
              <a:t>Una referencia única para coordinar los esfuerzos del gobierno y de los donantes (UN-REDD, FCPF, GTZ-KfW y futuro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d0d0d"/>
                </a:solidFill>
                <a:latin typeface="Calibri"/>
              </a:rPr>
              <a:t>3 componentes:</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Calibri"/>
              </a:rPr>
              <a:t>Componente 1: Incremento de la capacidad de las organizaciones nacionales gubernamentales para la implementación de acciones REDD+, el monitoreo y la evaluación de las reservas de carbono en bosques</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Calibri"/>
              </a:rPr>
              <a:t>Componente 2: Incremento de la capacidad de la población civil para la implementación de acciones REDD+</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Calibri"/>
              </a:rPr>
              <a:t>Componente 3. Generación de experiencias prácticas a nivel local, en iniciativas REDD,+ con la participación de las entidades territoriales y la sociedad civil.</a:t>
            </a:r>
            <a:endParaRPr b="0" lang="en-US" sz="2000" spc="-1" strike="noStrike">
              <a:solidFill>
                <a:srgbClr val="595959"/>
              </a:solidFill>
              <a:latin typeface="Calibri"/>
            </a:endParaRPr>
          </a:p>
        </p:txBody>
      </p:sp>
      <p:sp>
        <p:nvSpPr>
          <p:cNvPr id="502"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95959"/>
                </a:solidFill>
                <a:latin typeface="Franklin Gothic Book"/>
              </a:rPr>
              <a:t>REDD en Bolivia: un marco de resultado único</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9:37:26Z</dcterms:created>
  <dc:creator>Isabelle</dc:creator>
  <dc:description/>
  <dc:language>en-US</dc:language>
  <cp:lastModifiedBy>karen.arleth</cp:lastModifiedBy>
  <dcterms:modified xsi:type="dcterms:W3CDTF">2010-02-12T14:24:50Z</dcterms:modified>
  <cp:revision>112</cp:revision>
  <dc:subject/>
  <dc:title>Slide 1</dc:title>
</cp:coreProperties>
</file>