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64A-2AC7-420F-B0D5-80CB90B5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249-0A5E-4705-B0BB-1F5D3F4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76EB6-B6B2-4974-8058-6FB5B662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CA3E-D259-4D93-82ED-052278B2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54D04-71CE-4E6D-A423-01FD49A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BA9E8-D7D0-44CB-A7BD-4711B09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EF49D-B819-4AB9-9376-599C2C9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D59FB-7870-45AA-86DE-94A464F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14786-E833-4513-9DB6-7CE1EFA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DF69A-B118-45B2-9561-0EAE2354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02267-1217-488C-AC0F-77FC30E4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070D3-CB1B-40B4-BB4B-88289B4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8B3-3C90-4AC4-9747-6F4DA21E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DCBF3-1874-495F-A70B-E0EC8933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BE947-92C5-4B94-8B20-51A54318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02F20-D535-431D-B637-3454E41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08455-47F3-4BBE-AD42-B3B2305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4ABD6-CD22-48F1-B441-24F35D7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6E0B3-0C68-42D2-A518-5D17915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23E6E-3E3A-4604-B39A-9B7F730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B63EC-D996-43DF-8BE5-F487BDB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4331A-EA0E-4B3B-9E08-5CA545D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3CAC-D078-4C53-84A2-E3ACBAE1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3E5-2AAF-46A9-BF13-122EBAD2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F56A5-8D37-4710-8DF7-B1097C5A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F0C6-9535-413A-BAF4-2847E38F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1CC96-416D-4FBB-8A94-AB4F9B8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77B2B-E950-4160-A9B8-0EC4BE6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2E10E-8108-4FFE-AA16-B7FFC7B1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3AC78-2E3B-49C8-AFC9-E615EC65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8B48-E973-4116-8EF3-6906E999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EF23-8B06-4098-8748-1880EF9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A6E8-F820-4A97-9041-403D94A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FA156-E0FE-4B6C-B197-F7AD921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761A-C519-4950-B073-B0E22327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EE955-B5CC-4847-BE72-3823723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F69B-48E4-4BB8-BFA1-4DC0312D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2FDC4-5F7F-480C-845D-541461DF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2D387-0170-49D5-AEB1-6F48BAB4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B05B-AC18-4D34-B38A-C6E3916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1847D-5E41-4299-8156-AB0A93BE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2ED18-DCE5-460A-B0AC-CC70A9E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E0035-08AB-4AAB-95E7-79E3EB4D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D57F4-E609-4DAF-9D9D-32A9ED98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DB20C-0CDE-4BDE-8BB9-A592476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D8D-C4B4-4D6A-8908-DB004EBC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FD9C6-6A02-49C6-B2CF-6EB4F3E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8521D-B67B-44DA-95D1-8E44A32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D669E-57BB-45F9-95B6-C27E976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0675E-B8EA-4449-9288-CA819F05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F9655-B012-483E-9ABA-504EFB33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F87-C68A-4F66-958A-1F39C5EC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AF6-8BD6-4EC7-A035-3729A25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BF5E-B214-4F27-90C6-1F7F84B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1B0E-CC62-45C6-ADFC-6DB5AF1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1F9A-C4B0-4807-8D0E-754D3AE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4E2-A547-4647-81DE-7E5F806C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353-A1D0-4B28-A6E3-7509530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0E6A-3329-469A-8133-0CA4BCC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33CB-EF9A-4C42-8C38-9533FBF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63A2-8197-423C-9C62-7E81A1BB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E56-911F-48D9-8621-87DCE212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BD2B-98B7-4826-87EF-B90D360D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91D8-4EB4-49D3-ADEF-31CAB185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5C4E-AB5F-4919-AD84-98AD291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1E99-5762-4669-B31F-41B3EE2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D2FE-EBEC-4A38-81B7-B7A18A5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E2C-8071-46F9-909A-82CE0EDF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9EDF-5710-4CC4-A34E-2C279E9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102E-B40E-4C7F-AD5F-B275A10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D9A4-C3E7-40CE-AA2E-DAD74CB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9552-88C3-4A9C-B53C-953C090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1A34-8005-4494-A131-DBF8E5FD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A46F-1CE2-4705-A515-8F880E46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28D8-0612-4C68-BDFE-BDD2565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A52E-B8FC-4758-87FA-7AE512A2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5ADB-82E1-4A5D-981F-01988660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7F9F-EB8A-4583-A80D-7F589270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855-9FC2-4471-9D80-6F1B2E6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4E6F-530A-4340-B07F-26EC418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C427-47B2-43ED-BF4A-9FF2DD3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9D8F-25AB-4C6E-9872-DCDEDBC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E449-9BBF-4590-8307-AA9AF5F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B992-8EF0-4DF1-A348-C154418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F495-053B-4C34-920D-5E1BBB0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F811-1F01-44C2-9377-57EA3AE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721E-36B3-48EE-92C8-18BD469A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FFFD-5F49-432D-9C58-45C70CD8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7F37-B74D-493F-B617-7CC4F157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14F-A5EF-4FDA-9261-E921D59C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424F-506D-4AD5-A73B-D8D0FCCC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24443-F8EB-43DD-9FE4-1BE8CBE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3B06-CA4D-4851-BB1C-8F87C715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5912-774D-4B2B-906B-0CAB819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43ED-E873-42D3-9A9A-52CD39B0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3104-53A8-44B4-A8AE-65366C4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4270-FF64-43A0-9179-B1D68CC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691B-2DFC-4285-B3D5-D76273F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29C3-EF1B-4577-86E6-9AAFEB0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E228-3C02-4272-ABA8-CDCA398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962-8A34-4B00-8FB1-FE2323AF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C99E-D7C2-4530-AFEA-183C039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32C2-EF81-4F70-8A96-DE9FCA5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4F7E-B16D-4CC5-8AA1-B54F1F8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85642-E10C-4B35-BE8D-8C5CE0C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A70A-5F94-4E69-A713-865F9CC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4EC5-36C3-415E-80FA-09F37D73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EBB9-7517-411E-B800-26B03BD5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DAD7-2F0A-4755-90B7-24077C2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05D6-DCCA-4C8F-9227-47DDCA4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9736-E949-4703-9882-218C446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F13-8206-488E-B97B-736E1EB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75B6-6F16-47E5-8667-F04B9CB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3258-F729-4A61-81A9-7B1A7E22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BF7D-C7F7-4E70-AB3E-4802F05E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904F-27A0-4289-BC04-C2D57AE7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FA9A-5789-4AEC-B6F0-E1406F0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80769-9517-4072-B190-1409E7F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63DB-2F29-4C0D-89B2-870DD69B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856D-5D36-48D7-9510-C3FA078F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6A4D-0930-469D-8491-562ECD9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019C3-D5A7-4F16-A53E-1BBEE4AA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633-CCB1-42BB-8B51-5B4F04CC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A40D-AC1B-4E0E-9839-1F81BD1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63FB-4585-4843-9273-F16F3A4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A06F-7AD7-404C-AE2F-2EA4E6A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68F2-51B8-4214-9B45-C3FB152C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D7116-72A4-4A75-AEDF-50C0976F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6EA7-ED36-4D5F-B83B-F72AD386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AC4D-3DC6-48F2-BA69-C29A415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FF28-5D37-49C0-B0AB-95D49F2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7D53E-D666-4133-9D26-D80CFBA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1209-B5E8-4848-A471-AB973DA1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3B2-79A5-4F5F-9DAA-94610DA8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7CAB-E4DC-4806-A865-FD9A898B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02D3-7ABE-4AAE-A3A5-4AA4406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AE602-2DAA-4607-B811-50242FD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EAB6-950C-4E0E-B9A2-95C80A0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4709-5CB4-43D9-ABB0-C182F8B4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A29F-BA71-4385-821A-2B0D75AE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463BF-8516-48EC-A422-DDEE33B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8AB9-67CC-4627-9ABF-BA00DF00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833E-0CA6-4456-8E39-D7EE0CB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59284-79CE-47DA-A3FF-6506078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BA52E-97F4-40F0-AC5C-C39CD3E529C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6ABD0-24C5-4DB5-9BC1-D14533318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98794-42C6-40FC-A4D6-E0741A11D1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4D0D-6FCF-4E3B-9308-B7ED31B15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E57AE-7FE8-44B4-9B8B-93529AD8D34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2DDD-3E4B-4511-8CC3-908F80B43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DB559-1E2B-4F35-96EF-DF9F38EFF42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1BAB1-C24F-451E-AB42-B58EC7EEEE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EF7FA-AF8F-4E9E-B533-1D0A91107D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9D035-E4AC-47D8-8775-BF8590859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B1781-F58F-49FD-A530-E0159782D0D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EFD82-0D7A-4EEF-9AE2-57B5F4860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D44B2-628E-4B25-B941-6CDAED2CCA0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C69C8-E418-4B68-B7DE-A711EE69E7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8ED94-DBF8-4B96-9200-E1CE671A865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518F4-BE27-4456-AC60-2FC672005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668C0-4316-44E8-9C36-E2F92BD566C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D4010-98FF-4EFC-843A-965E3FD80F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3A904-8310-4F43-B0A7-17DDFB9B93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7EDB1-13FE-4854-B139-7C59BBC86A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32060-4A58-431E-886F-10EEDA86164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2E3AF-68DA-4F14-9738-359669EC0F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4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DEE83-85EC-44DD-A70D-F74481AA855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9326-1B26-431C-A573-0B7CB18414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 rot="17100000">
            <a:off x="-973440" y="3111120"/>
            <a:ext cx="565164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9" name="Picture 4" descr="UN REDD.png"/>
          <p:cNvPicPr/>
          <p:nvPr/>
        </p:nvPicPr>
        <p:blipFill>
          <a:blip r:embed="rId1"/>
          <a:stretch/>
        </p:blipFill>
        <p:spPr>
          <a:xfrm>
            <a:off x="260280" y="4827600"/>
            <a:ext cx="1228680" cy="984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4444920" y="5319720"/>
            <a:ext cx="443880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4059360" y="182520"/>
            <a:ext cx="489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is national consultation workshop aims to bring stakeholders together and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Raise awareness on corruption risks for REDD+ implementation in the Philippine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Discuss and give input on the proposed methodology for corruption risk assessment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Give feedback on the UN REDD methodology that will be presented on Day 2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Gather initial data on corruption risks in relation to REDD+ in the Philippine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2" name="Picture 1" descr="GIZ_logo"/>
          <p:cNvPicPr/>
          <p:nvPr/>
        </p:nvPicPr>
        <p:blipFill>
          <a:blip r:embed="rId3"/>
          <a:stretch/>
        </p:blipFill>
        <p:spPr>
          <a:xfrm>
            <a:off x="260280" y="5948280"/>
            <a:ext cx="1393920" cy="693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2409840" y="5958000"/>
            <a:ext cx="672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so with support from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rebuchet MS"/>
                <a:ea typeface="Trebuchet MS"/>
              </a:rPr>
              <a:t>Non-Legally Binding Instrument on All Types of Forests in the Philippines:  A Contribution to Reducing Deforestation and Forest Degradation (FAO-NLBI)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2:44:21Z</dcterms:created>
  <dc:creator>Niner Guiao</dc:creator>
  <dc:description/>
  <dc:language>en-US</dc:language>
  <cp:lastModifiedBy>Niner Guiao</cp:lastModifiedBy>
  <dcterms:modified xsi:type="dcterms:W3CDTF">2012-10-15T02:53:20Z</dcterms:modified>
  <cp:revision>2</cp:revision>
  <dc:subject/>
  <dc:title>Project Information</dc:title>
</cp:coreProperties>
</file>