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70D-671D-4447-9503-73139A5C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F7A-7A76-440C-A84D-B517DE4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CE7FD-EF0A-424B-A0E9-7FBD8372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A8B8F-F9F1-4276-AACB-6D11B4B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A9B1C-FA5F-4F69-BC9D-237A1F0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35AD5-CCC3-47B7-9B78-5B6E6E7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A5DD-0B81-4476-9299-303A70F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55B0C-9DCF-44E4-8371-6DEA772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BA14-7CD6-4201-8B6E-9B26FA5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815F-6202-4120-82F6-4FBD0DD0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F518D-A94F-4D4F-BF7F-00473D92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4A86C-17AC-48B3-8BBA-36BBE494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20E-7796-4040-A608-126E69A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151D4-B408-4D1F-8CE5-5548901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0D3A-9C4C-41C2-8448-93B570B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93260-AF96-4277-A826-FCA326F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E06F5-9351-4E95-AA46-948B49B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A3803-482B-46D2-93BA-585BE351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31155-E0CB-4FD3-AF1E-E8575EA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DA8D9-DCB9-4BB6-8725-864D641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0FFFB-A2A7-41BD-BC8A-B5BB09FC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41CEB-7BE8-491B-BDBB-E3C17476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6A251-38C7-49C3-AC5E-C31EF8BC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4D-6E46-4535-BA94-FC13C423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7B3DB-C323-4E6F-8CAB-C61664F8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D088-4413-4160-99AF-D64448A9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1280B-6A87-4B63-98A2-10C7141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39594-683D-4D9C-82AC-C98012F7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A2DB-1805-4C19-AF95-355A27C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62659-FD72-464E-BFE8-7FAC02D4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01410-7F9E-4C1A-B6DC-E6D4DD40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9CA0-9BE4-4FBE-AB31-22C4F76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1369F-48AA-4BB1-BA71-76F71F4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8B7A8-A0E0-4901-9A4C-3EAC8A9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641B-3EC7-4891-83B6-2D84E453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B281-AC32-4AF9-8257-7386560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D8A5-C56C-4AF5-9302-3B559D01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DCB7-0023-44E0-BDF6-DB9E0A28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B05A1-81D7-4C0B-9187-7DCD1CE9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57B01-C618-4A10-A91B-25FE34B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7332C-41A6-427C-9325-7A6C1E1F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BE8AA-0C2D-40C0-92F3-F9BED16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83130-EBC7-4EC2-BF34-9985C39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5D15C-3430-403E-BD21-1BDF43A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B83EB-E1D1-4354-ACA8-3A1EB89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0531-DED0-4A5A-9ED2-7246BD9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8542-2133-42FD-8B0E-088783A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D4969-DE6D-44FD-B8A7-A97002F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A900D-4547-4163-AF28-95B22E3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69A53-8833-4ED6-B95D-358D0E68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DD0EB-8122-4CA4-8ED8-E591C16F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C5E2-23B9-497D-8A43-714B844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A9DC-8972-4097-AC94-41051AAD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760-78A5-435A-ADAC-FBABC2DF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867-4F01-44F4-98A2-47E3E54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325-9B10-4A6E-98A3-6B3BC7E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0B2-8AE1-49F8-B0E6-D717A0B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BF5-EF63-4596-9601-9986114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7147-D0AF-48AC-B525-FC12219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94B5-52CB-441A-B3BA-82A2500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C197-D621-48EB-AC72-71867AC3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02A-EF64-48F7-92B8-805688EA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52D9-DF7B-42D3-821D-9A8FC1B5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075A-0018-48B6-9347-3B24D44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B7B7-A140-46BF-BD95-DF17D04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6CF6-6F17-4DB5-BB95-BF1ABE21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406B-3B72-4F62-ABD3-13C3A2A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6FE-A7E8-4602-96F5-F0288B93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DD69-E69E-4823-A58D-8967175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1943-1A6D-4394-A48A-90E27D6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A919-4376-4489-9031-D0A552A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3720-9A85-420B-92E8-9051AB1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19E1-FADD-49FD-8D97-0307E751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1A7C-8F77-4FEA-AE48-85A0CD30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C6E6-6D99-4FB8-B59F-A9DBF909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1997-1891-4660-9650-5C7528BE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FFDA-8C61-4F3B-8701-FCF9B4A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6C91-0B42-4999-8057-3C800E0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282-7AC0-48D7-A8C9-96BEA4EC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1FBB-8ACC-4354-8315-45A8535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A881-75C2-4C69-9642-130C136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F220-3F94-4D6A-9F7B-27CCAB3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CE20-6610-4DBD-94BB-9BC3C0F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A816-E142-41E6-B180-89BD360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69BF-A90D-4D2D-9AAA-E0CCDF6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374A-46EB-4090-84EC-E2A23E2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DED6-543E-4949-B973-4ECB3F4E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6ACE-49FD-44CF-96EB-6EF303CF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4F6F-AC39-4ECE-8251-60A741FF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EDA-7B8D-4051-B557-41B8864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E47F-C2D0-48C1-98CB-B198BE9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638B-3899-4C6B-B350-15F0ABB7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295B-A2EC-487C-9AC8-1CC5447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DCCC-E206-4CE4-ADC6-F26EADFF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6736-9A9B-4411-B290-04606E0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0969-D028-4DB8-9AFA-1C36FB61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4229-3D4F-456E-8F33-DC0405E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FCEE-3BD9-48C1-B565-E0E0CDC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689C-CE93-437B-B59B-D1657D1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B0AC-645F-432F-8494-F1FCE8B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E2A-5D1A-4BF1-B316-4B8A57B1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6C98-ECED-4E03-8B28-4099B530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5F5A-3E2B-49CD-A32B-8738180E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87ED-EE92-4B14-A67B-67FDA807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2BF7-C6E1-4EEB-AA59-2CE3B4C6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6860-74C6-4BA6-A7D9-B6AC525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9DF8-23F2-4AD2-8DC2-E88893FE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155A-A45C-493F-B47E-DD459402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B6FC-06C6-47BA-9D67-02CAE0D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12A05-B723-4D75-9792-063525E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1EA5-7E14-48CD-ACAB-0AA0B31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BD8-48B8-450E-B191-640F039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CF19-7124-4088-A706-540362A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A049-3BCF-4727-B83D-8C367F6C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1476-3708-4478-8F0C-7796336A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A728-7E01-41C7-B377-6DB2E37F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C9249-8D91-456A-9383-8789FAC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6BDD-B320-4CAF-9D64-AB6AC24D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9416-C7FD-46B3-A4A9-D54FA63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B2FD-F060-49AC-ADE2-6E183CF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12DC-0FDF-46B2-9E6E-BCAEB24E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1407-051B-4FC5-BF82-F79161B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89B-6EE9-45B1-95B3-52BE10E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20B5-F249-431F-87D5-F5CD303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57EB-2858-4D86-B15C-F92EA4B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A974D-AAC5-4EC2-AA75-9614F33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C462-8F9A-4B8D-B990-DD25ACC6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4CF0-19F2-4CDE-AD13-BEF64A04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8850-06DB-4AE0-ABF1-C89FB4EE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DE7FD-2B43-4846-A679-96B4B12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8777-EC57-474A-AD3B-EF9FF354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EE9E-1CF2-4313-B4E8-F4CF341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FDE7-0F17-4046-ACDF-F5C6E4A5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13B-A7DB-4477-8072-D55E7B0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DFEBC-A198-4D09-9BA4-C6678124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FE3A-098E-4CE1-BE88-61D67C3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E4934-AFD0-4DA9-A7C7-B190F91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3C56-375C-4B8F-9EDD-6E5DEE4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85E78-C146-4D5B-BD05-5F64D27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B384-B20B-4F0A-A1AE-867DB635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BDB6-77B5-45E8-9C9A-45F04F3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6C533-2EF7-4181-BE42-9E6FCB09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8187F-94FD-465E-876A-0BF3763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73D5-210A-470E-9797-FD65BDCC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8D876-01CD-4E0D-B0CD-97CD057533D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C1441-EE1D-4F2D-A339-74A040F942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D0817-3234-482B-B2D2-46E77D17DE8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C5FBF-A549-4375-AC25-5562E6296E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0B61-109A-4670-9954-8BD9D4F5C32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B7894-D7D0-47B7-B048-508915A08D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0D546-935C-4AF9-AA73-51AF625B9E6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D9BB4-2202-4804-9464-BCEE72E1FE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2B67A-83D8-4971-8968-44809D117E1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AE1B1-F820-4FCE-A680-D00BEFA4B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F900-6DB4-4AD2-8FDB-84AC3983E62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87428-BE02-4832-9030-5B41B25691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1ED0-3D6C-4908-8CEA-50746EDF015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3BFBF-1E6B-4E50-9973-18ED28152A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8D6CD-8461-4DE6-B560-D5DA07E5042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FE4C9-57F5-4241-98B9-6AAA1986A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D75D5-05A8-41D6-B3B1-EA69B4B8BC0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E1C5A-68ED-4571-9E4B-30EB72C8E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5209B-4B4E-4386-B052-CFE04CA02F0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1E074-0086-4E36-A24E-7DB45BF328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527D1-5396-4D31-A155-1AB1639CAFE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05C63-BCCD-4CD0-87CE-CDEA20C1B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BEC1B-6EB1-40F3-AA0F-A1C2077161A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D8B7D-8CA1-47AE-958E-A5CA4C9ED0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 rot="17100000">
            <a:off x="-973440" y="3111120"/>
            <a:ext cx="565164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9" name="Picture 4" descr="UN REDD.png"/>
          <p:cNvPicPr/>
          <p:nvPr/>
        </p:nvPicPr>
        <p:blipFill>
          <a:blip r:embed="rId1"/>
          <a:stretch/>
        </p:blipFill>
        <p:spPr>
          <a:xfrm>
            <a:off x="260280" y="4827600"/>
            <a:ext cx="1228680" cy="984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4444920" y="5319720"/>
            <a:ext cx="443880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4059360" y="182520"/>
            <a:ext cx="489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is national consultation workshop aims to bring stakeholders together and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Raise awareness on corruption risks for REDD+ implementation in the Philippine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Discuss and give input on the proposed methodology for corruption risk assessment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Give feedback on the UN REDD methodology that will be presented on Day 2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Gather initial data on corruption risks in relation to REDD+ in the Philippine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2" name="Picture 1" descr="GIZ_logo"/>
          <p:cNvPicPr/>
          <p:nvPr/>
        </p:nvPicPr>
        <p:blipFill>
          <a:blip r:embed="rId3"/>
          <a:stretch/>
        </p:blipFill>
        <p:spPr>
          <a:xfrm>
            <a:off x="260280" y="5948280"/>
            <a:ext cx="1393920" cy="693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2409840" y="5958000"/>
            <a:ext cx="672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so with support from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rebuchet MS"/>
                <a:ea typeface="Trebuchet MS"/>
              </a:rPr>
              <a:t>Non-Legally Binding Instrument on All Types of Forests in the Philippines:  A Contribution to Reducing Deforestation and Forest Degradation (FAO-NLBI)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2:44:21Z</dcterms:created>
  <dc:creator>Niner Guiao</dc:creator>
  <dc:description/>
  <dc:language>en-US</dc:language>
  <cp:lastModifiedBy>Niner Guiao</cp:lastModifiedBy>
  <dcterms:modified xsi:type="dcterms:W3CDTF">2012-10-15T02:53:20Z</dcterms:modified>
  <cp:revision>2</cp:revision>
  <dc:subject/>
  <dc:title>Project Information</dc:title>
</cp:coreProperties>
</file>