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FB5E-93CD-48FA-B9EE-5170CDBF47F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99E4-A1D2-4923-A38B-7228FF6406D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B8BF-D20C-4D66-95D5-B0A3AC62F23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8038-9F2C-4ABA-A120-315E4202B4F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D3C9-87E1-4ABC-B662-49C20C406BD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B30B-E150-4BD0-BCF4-91110B598EE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800280" indent="-343080">
              <a:spcBef>
                <a:spcPts val="451"/>
              </a:spcBef>
              <a:buClr>
                <a:srgbClr val="3366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I" sz="1200" spc="-1" strike="noStrike">
                <a:solidFill>
                  <a:srgbClr val="3366ff"/>
                </a:solidFill>
                <a:latin typeface="Calibri"/>
              </a:rPr>
              <a:t>Formation en cascade pour les responsables opérationnels au niveau régional et local pour la collecte, la vérification et la saisie des in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1455-EFB0-4C9F-9E73-4E5F32DBBF8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8A78-FB52-454D-B21F-8875923567F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7518-E948-4D02-8F79-2F4AF11C1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59EE-C672-435A-83D1-CC85A227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44B9-7B86-4FE6-B8B6-906FE464D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EDA7-1065-4FCC-9D62-6EB9230CA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2D9D-F72E-40D6-9355-727EBB51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E792-09F7-4438-851D-07FD4724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3387-4BA2-4679-AF10-75C44A55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E74A-D1EE-44D1-9925-35CFFFEE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6BCD-F544-4CDF-81E3-7D1A000C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C921-88B6-4E4E-9119-B71CEC89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E651-49C6-4054-8E66-F86D3FD2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17E2-2DB8-4447-8F4E-4E5B6905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E660-98E7-4122-9BB8-18774AE2A72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is-redd-madagascar.webou.net/scripts/" TargetMode="External"/><Relationship Id="rId2" Type="http://schemas.openxmlformats.org/officeDocument/2006/relationships/hyperlink" Target="https://www.bnc-redd.m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esented b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MITIANA Andriamanja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AOZANDRY Jean Jacq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ational REDD+ Burea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ADAGASC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Designing a Safeguards Information syste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2514600" y="570060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Calibri"/>
              </a:rPr>
              <a:t>Africa Regional South-South Knowledge Exchange on REDD+ Safeguards and Safeguards Information 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Accra.  12 – 13 June 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31640" y="312840"/>
            <a:ext cx="9350280" cy="110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National REDD+ Readiness Proces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entagon 3"/>
          <p:cNvSpPr/>
          <p:nvPr/>
        </p:nvSpPr>
        <p:spPr>
          <a:xfrm>
            <a:off x="463680" y="2031840"/>
            <a:ext cx="9828000" cy="2514600"/>
          </a:xfrm>
          <a:custGeom>
            <a:avLst/>
            <a:gdLst>
              <a:gd name="textAreaLeft" fmla="*/ 0 w 9828000"/>
              <a:gd name="textAreaRight" fmla="*/ 9828360 w 98280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9" y="0"/>
                </a:lnTo>
                <a:lnTo>
                  <a:pt x="21600" y="10800"/>
                </a:lnTo>
                <a:lnTo>
                  <a:pt x="1981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ef397"/>
              </a:gs>
              <a:gs pos="100000">
                <a:srgbClr val="eafae0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552600" y="203976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alibri"/>
                <a:ea typeface="Arial"/>
              </a:rPr>
              <a:t>Readiness p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entagon 5"/>
          <p:cNvSpPr/>
          <p:nvPr/>
        </p:nvSpPr>
        <p:spPr>
          <a:xfrm>
            <a:off x="2295360" y="4008600"/>
            <a:ext cx="9448920" cy="2228760"/>
          </a:xfrm>
          <a:custGeom>
            <a:avLst/>
            <a:gdLst>
              <a:gd name="textAreaLeft" fmla="*/ 0 w 9448920"/>
              <a:gd name="textAreaRight" fmla="*/ 9449280 w 9448920"/>
              <a:gd name="textAreaTop" fmla="*/ 0 h 2228760"/>
              <a:gd name="textAreaBottom" fmla="*/ 2229120 h 22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0" y="0"/>
                </a:lnTo>
                <a:lnTo>
                  <a:pt x="21600" y="10800"/>
                </a:lnTo>
                <a:lnTo>
                  <a:pt x="1978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ef397"/>
              </a:gs>
              <a:gs pos="100000">
                <a:srgbClr val="eafae0"/>
              </a:gs>
            </a:gsLst>
            <a:lin ang="2700000"/>
          </a:gra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2327400" y="4022640"/>
            <a:ext cx="32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472c4"/>
                </a:solidFill>
                <a:latin typeface="Calibri"/>
                <a:ea typeface="Arial"/>
              </a:rPr>
              <a:t>Implementation phase- P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2505240" y="2346480"/>
            <a:ext cx="20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00"/>
                </a:solidFill>
                <a:latin typeface="Calibri"/>
                <a:ea typeface="Arial"/>
              </a:rPr>
              <a:t>Oct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8"/>
          <p:cNvSpPr/>
          <p:nvPr/>
        </p:nvSpPr>
        <p:spPr>
          <a:xfrm>
            <a:off x="2381400" y="2565360"/>
            <a:ext cx="2908080" cy="0"/>
          </a:xfrm>
          <a:prstGeom prst="line">
            <a:avLst/>
          </a:prstGeom>
          <a:ln w="64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9"/>
          <p:cNvSpPr/>
          <p:nvPr/>
        </p:nvSpPr>
        <p:spPr>
          <a:xfrm flipV="1">
            <a:off x="2914560" y="2565360"/>
            <a:ext cx="0" cy="76320"/>
          </a:xfrm>
          <a:prstGeom prst="line">
            <a:avLst/>
          </a:prstGeom>
          <a:ln w="64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2295360" y="2643120"/>
            <a:ext cx="13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Calibri"/>
              </a:rPr>
              <a:t>Funding from FCP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5381640" y="2320920"/>
            <a:ext cx="181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November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12"/>
          <p:cNvSpPr/>
          <p:nvPr/>
        </p:nvSpPr>
        <p:spPr>
          <a:xfrm>
            <a:off x="5562720" y="2567160"/>
            <a:ext cx="1028520" cy="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13"/>
          <p:cNvSpPr/>
          <p:nvPr/>
        </p:nvSpPr>
        <p:spPr>
          <a:xfrm flipV="1">
            <a:off x="5877000" y="2566800"/>
            <a:ext cx="0" cy="7596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4"/>
          <p:cNvSpPr/>
          <p:nvPr/>
        </p:nvSpPr>
        <p:spPr>
          <a:xfrm>
            <a:off x="5289480" y="2631960"/>
            <a:ext cx="198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Calibri"/>
              </a:rPr>
              <a:t>National Strategy, FRL/NSFM and SIS , MGP, 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5"/>
          <p:cNvSpPr/>
          <p:nvPr/>
        </p:nvSpPr>
        <p:spPr>
          <a:xfrm>
            <a:off x="7272360" y="2316240"/>
            <a:ext cx="10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June 20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6"/>
          <p:cNvSpPr/>
          <p:nvPr/>
        </p:nvSpPr>
        <p:spPr>
          <a:xfrm>
            <a:off x="7210440" y="2554200"/>
            <a:ext cx="1028520" cy="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17"/>
          <p:cNvSpPr/>
          <p:nvPr/>
        </p:nvSpPr>
        <p:spPr>
          <a:xfrm flipV="1">
            <a:off x="7705800" y="2565360"/>
            <a:ext cx="0" cy="7632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8"/>
          <p:cNvSpPr/>
          <p:nvPr/>
        </p:nvSpPr>
        <p:spPr>
          <a:xfrm>
            <a:off x="7155000" y="2631960"/>
            <a:ext cx="216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Calibri"/>
              </a:rPr>
              <a:t>Investment plan and National REDD+ national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9"/>
          <p:cNvSpPr/>
          <p:nvPr/>
        </p:nvSpPr>
        <p:spPr>
          <a:xfrm>
            <a:off x="3424320" y="4335480"/>
            <a:ext cx="15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00"/>
                </a:solidFill>
                <a:latin typeface="Calibri"/>
                <a:ea typeface="Arial"/>
              </a:rPr>
              <a:t>Oct.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20"/>
          <p:cNvSpPr/>
          <p:nvPr/>
        </p:nvSpPr>
        <p:spPr>
          <a:xfrm>
            <a:off x="3548160" y="4610160"/>
            <a:ext cx="1028520" cy="0"/>
          </a:xfrm>
          <a:prstGeom prst="line">
            <a:avLst/>
          </a:prstGeom>
          <a:ln w="64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21"/>
          <p:cNvSpPr/>
          <p:nvPr/>
        </p:nvSpPr>
        <p:spPr>
          <a:xfrm flipV="1">
            <a:off x="3949560" y="4613040"/>
            <a:ext cx="0" cy="75960"/>
          </a:xfrm>
          <a:prstGeom prst="line">
            <a:avLst/>
          </a:prstGeom>
          <a:ln w="64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2"/>
          <p:cNvSpPr/>
          <p:nvPr/>
        </p:nvSpPr>
        <p:spPr>
          <a:xfrm>
            <a:off x="3187800" y="4705200"/>
            <a:ext cx="227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Calibri"/>
              </a:rPr>
              <a:t>ER-PIN approved by the FCP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3"/>
          <p:cNvSpPr/>
          <p:nvPr/>
        </p:nvSpPr>
        <p:spPr>
          <a:xfrm>
            <a:off x="6570720" y="43322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Mars. 20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24"/>
          <p:cNvSpPr/>
          <p:nvPr/>
        </p:nvSpPr>
        <p:spPr>
          <a:xfrm>
            <a:off x="6605640" y="4616280"/>
            <a:ext cx="1028520" cy="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25"/>
          <p:cNvSpPr/>
          <p:nvPr/>
        </p:nvSpPr>
        <p:spPr>
          <a:xfrm flipV="1">
            <a:off x="7139160" y="4616280"/>
            <a:ext cx="0" cy="7632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6"/>
          <p:cNvSpPr/>
          <p:nvPr/>
        </p:nvSpPr>
        <p:spPr>
          <a:xfrm>
            <a:off x="6603840" y="473076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Calibri"/>
              </a:rPr>
              <a:t>ER-PA signed with the FCP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7"/>
          <p:cNvSpPr/>
          <p:nvPr/>
        </p:nvSpPr>
        <p:spPr>
          <a:xfrm>
            <a:off x="8010360" y="4336920"/>
            <a:ext cx="14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Dec. 20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28"/>
          <p:cNvSpPr/>
          <p:nvPr/>
        </p:nvSpPr>
        <p:spPr>
          <a:xfrm>
            <a:off x="7786800" y="4613400"/>
            <a:ext cx="1028520" cy="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29"/>
          <p:cNvSpPr/>
          <p:nvPr/>
        </p:nvSpPr>
        <p:spPr>
          <a:xfrm flipV="1">
            <a:off x="8319960" y="4613040"/>
            <a:ext cx="0" cy="7596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0"/>
          <p:cNvSpPr/>
          <p:nvPr/>
        </p:nvSpPr>
        <p:spPr>
          <a:xfrm>
            <a:off x="8109000" y="46893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Calibri"/>
              </a:rPr>
              <a:t>National outco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1"/>
          <p:cNvSpPr/>
          <p:nvPr/>
        </p:nvSpPr>
        <p:spPr>
          <a:xfrm>
            <a:off x="9380520" y="4330800"/>
            <a:ext cx="159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2017-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32"/>
          <p:cNvSpPr/>
          <p:nvPr/>
        </p:nvSpPr>
        <p:spPr>
          <a:xfrm>
            <a:off x="9501120" y="4587840"/>
            <a:ext cx="1028880" cy="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33"/>
          <p:cNvSpPr/>
          <p:nvPr/>
        </p:nvSpPr>
        <p:spPr>
          <a:xfrm flipV="1">
            <a:off x="10034640" y="4587840"/>
            <a:ext cx="0" cy="7632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4"/>
          <p:cNvSpPr/>
          <p:nvPr/>
        </p:nvSpPr>
        <p:spPr>
          <a:xfrm>
            <a:off x="9501120" y="461340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Calibri"/>
              </a:rPr>
              <a:t>Other payments for results agre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9"/>
          <p:cNvSpPr/>
          <p:nvPr/>
        </p:nvSpPr>
        <p:spPr>
          <a:xfrm>
            <a:off x="5289480" y="554832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Calibri"/>
              </a:rPr>
              <a:t>Convergence of additional national and international fu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3751200" y="2319480"/>
            <a:ext cx="212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00"/>
                </a:solidFill>
                <a:latin typeface="Calibri"/>
                <a:ea typeface="Arial"/>
              </a:rPr>
              <a:t>2015 – mi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5"/>
          <p:cNvSpPr/>
          <p:nvPr/>
        </p:nvSpPr>
        <p:spPr>
          <a:xfrm>
            <a:off x="3510000" y="2541600"/>
            <a:ext cx="191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Calibri"/>
              </a:rPr>
              <a:t>Baseline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Calibri"/>
              </a:rPr>
              <a:t>Definition of Strategic options /policies and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5"/>
          <p:cNvSpPr/>
          <p:nvPr/>
        </p:nvSpPr>
        <p:spPr>
          <a:xfrm>
            <a:off x="3743280" y="3336840"/>
            <a:ext cx="2782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Calibri"/>
              </a:rPr>
              <a:t>Arrangements put in pla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Calibri"/>
              </a:rPr>
              <a:t>- institutional, le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Calibri"/>
              </a:rPr>
              <a:t>-finan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5"/>
          <p:cNvSpPr/>
          <p:nvPr/>
        </p:nvSpPr>
        <p:spPr>
          <a:xfrm>
            <a:off x="6283440" y="3346560"/>
            <a:ext cx="347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Calibri"/>
              </a:rPr>
              <a:t>National and international policy dialogues</a:t>
            </a:r>
            <a:r>
              <a:rPr b="0" i="1" lang="en-US" sz="1200" spc="-1" strike="noStrike">
                <a:solidFill>
                  <a:srgbClr val="262626"/>
                </a:solidFill>
                <a:latin typeface="Calibri"/>
              </a:rPr>
              <a:t>: policy integration and legal framework : sector 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onnecteur droit 67"/>
          <p:cNvSpPr/>
          <p:nvPr/>
        </p:nvSpPr>
        <p:spPr>
          <a:xfrm>
            <a:off x="2505240" y="3349800"/>
            <a:ext cx="7257960" cy="15840"/>
          </a:xfrm>
          <a:prstGeom prst="line">
            <a:avLst/>
          </a:prstGeom>
          <a:ln w="6480">
            <a:solidFill>
              <a:srgbClr val="af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onnecteur droit 70"/>
          <p:cNvSpPr/>
          <p:nvPr/>
        </p:nvSpPr>
        <p:spPr>
          <a:xfrm flipV="1">
            <a:off x="4976640" y="5416200"/>
            <a:ext cx="5675400" cy="27000"/>
          </a:xfrm>
          <a:prstGeom prst="line">
            <a:avLst/>
          </a:prstGeom>
          <a:ln w="6480">
            <a:solidFill>
              <a:srgbClr val="af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977760" y="2320920"/>
            <a:ext cx="10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6600"/>
                </a:solidFill>
                <a:latin typeface="Calibri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10"/>
          <p:cNvSpPr/>
          <p:nvPr/>
        </p:nvSpPr>
        <p:spPr>
          <a:xfrm>
            <a:off x="736560" y="2554200"/>
            <a:ext cx="1324080" cy="0"/>
          </a:xfrm>
          <a:prstGeom prst="line">
            <a:avLst/>
          </a:prstGeom>
          <a:ln w="64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5"/>
          <p:cNvSpPr/>
          <p:nvPr/>
        </p:nvSpPr>
        <p:spPr>
          <a:xfrm>
            <a:off x="946080" y="2809800"/>
            <a:ext cx="13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Calibri"/>
              </a:rPr>
              <a:t>RPP Formul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5"/>
          <p:cNvSpPr/>
          <p:nvPr/>
        </p:nvSpPr>
        <p:spPr>
          <a:xfrm>
            <a:off x="689040" y="2593800"/>
            <a:ext cx="13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Calibri"/>
              </a:rPr>
              <a:t>R-P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4"/>
          <p:cNvSpPr/>
          <p:nvPr/>
        </p:nvSpPr>
        <p:spPr>
          <a:xfrm>
            <a:off x="5289480" y="43466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Dec.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45"/>
          <p:cNvSpPr/>
          <p:nvPr/>
        </p:nvSpPr>
        <p:spPr>
          <a:xfrm>
            <a:off x="5275440" y="4616280"/>
            <a:ext cx="1028520" cy="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46"/>
          <p:cNvSpPr/>
          <p:nvPr/>
        </p:nvSpPr>
        <p:spPr>
          <a:xfrm flipV="1">
            <a:off x="5808600" y="4616280"/>
            <a:ext cx="0" cy="7632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7"/>
          <p:cNvSpPr/>
          <p:nvPr/>
        </p:nvSpPr>
        <p:spPr>
          <a:xfrm>
            <a:off x="5129280" y="4680000"/>
            <a:ext cx="144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Calibri"/>
              </a:rPr>
              <a:t>ERP Validation by Carbon F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96520" y="1107720"/>
            <a:ext cx="110934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at process did you use to define the information that your SIS will collect and provide (info needs)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ff"/>
                </a:solidFill>
                <a:latin typeface="Calibri"/>
              </a:rPr>
              <a:t>The process  can be summarised as follows: (1) setting up a conceptual framework for the SIS comprised of principles, criteria and indicators (Cancun safeguards adapted to national context), (ii) Establishing a baseline of  information available  at the level of the two existing REDD+ projects. (iii) Development of a monitoring protocol, (iv) Development of a  data base management system and capacity building of us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What format will you use for collecting the information (PCI, narrative text, model reports) 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ff"/>
                </a:solidFill>
                <a:latin typeface="Calibri"/>
              </a:rPr>
              <a:t>Questionnaire validated by all stakeholders, especially  National Platform (designed and tested, with measurable objectiv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ve you already defined the functions of your SIS (collection, aggregation, analysis, reporting, dissemination)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Calibri"/>
              </a:rPr>
              <a:t>Yes, see table in nex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o you have a clear idea of existing information systems and relevant sources for the SIS?  If NO,  have you commissioned  specific studies  or analys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ff"/>
                </a:solidFill>
                <a:latin typeface="Calibri"/>
              </a:rPr>
              <a:t>Study commissioned to a service provider to identify information sources and system operations from data collection to dissemination (see diagra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ve you identified which institution/agency should host – and/or be responsible for the SIS?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ff"/>
                </a:solidFill>
                <a:latin typeface="Calibri"/>
              </a:rPr>
              <a:t>Ministry of Environment, Ecology and Forests (MEEF) through Regional Coordination Bureau will host the SIS. An MEEF employee will  operate it. He will be assisted by the National REDD+ Office on data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ve you considered creating a dedicated web-based platform to share/disseminate information? If so, what should be the key aspects of this web-based platform?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sis-redd-madagascar.webou.net/scripts/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https://www.bnc-redd.m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o will be responsible for each function?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ow is your SIS being funded/budgeted?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ff"/>
                </a:solidFill>
                <a:latin typeface="Calibri"/>
              </a:rPr>
              <a:t>Data collection for each project funded by project develop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ff"/>
                </a:solidFill>
                <a:latin typeface="Calibri"/>
              </a:rPr>
              <a:t>Operation of the system ( (materials and equipment, training, etc.): financing planned under the REDD+ strate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982800" y="304560"/>
            <a:ext cx="9586800" cy="80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 Light"/>
              </a:rPr>
              <a:t>Process : what we have don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8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IS: Institutions and </a:t>
            </a: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Responsibilitie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73160" y="438120"/>
          <a:ext cx="11887200" cy="6311880"/>
        </p:xfrm>
        <a:graphic>
          <a:graphicData uri="http://schemas.openxmlformats.org/drawingml/2006/table">
            <a:tbl>
              <a:tblPr/>
              <a:tblGrid>
                <a:gridCol w="3149640"/>
                <a:gridCol w="8737560"/>
              </a:tblGrid>
              <a:tr h="336600">
                <a:tc>
                  <a:txBody>
                    <a:bodyPr lIns="122040" rIns="122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it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ponsi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581040">
                <a:tc>
                  <a:txBody>
                    <a:bodyPr lIns="122040" rIns="122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CT DEVELOP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provide data from design stage and monitor implementation (screening sheet, Environmental and Social Management Plan, Project Design Docum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504720">
                <a:tc>
                  <a:txBody>
                    <a:bodyPr lIns="122040" rIns="122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yor’s Executive Offi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tion quality control, on-site ver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31960">
                <a:tc>
                  <a:txBody>
                    <a:bodyPr lIns="122040" rIns="122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onal REDD+ Coordination Bureau (BRC-RED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onitoring the implementation of safeguard measures, data collection and reconciliation, information quality assurance and control, transmission of reports to the National REDD+ Coordination Bureau (BNC-REDD)/National Platform for dissemin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831960">
                <a:tc>
                  <a:txBody>
                    <a:bodyPr lIns="122040" rIns="122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ing committee for the implementation of safeguard pl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onitoring safeguards impleme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eparation and transmission of reports to the BRC-REDD/BN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04720">
                <a:tc>
                  <a:txBody>
                    <a:bodyPr lIns="122040" rIns="122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vil society organis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 organise site visits to monitor and report on the implementation of meas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581040">
                <a:tc>
                  <a:txBody>
                    <a:bodyPr lIns="122040" rIns="122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onal and national Platforms  (PFR/PF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 deliberate about the consistency and quality of data acceptable to all stakehol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04720">
                <a:tc>
                  <a:txBody>
                    <a:bodyPr lIns="122040" rIns="122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feguards Technical Group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propose measures to improve the SIS and the presentation of repo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582480">
                <a:tc>
                  <a:txBody>
                    <a:bodyPr lIns="122040" rIns="122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ional REDD+ Coordination Bureau (BNC-RED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ther, analyse, manage and disseminate information, and improve the 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81040">
                <a:tc>
                  <a:txBody>
                    <a:bodyPr lIns="122040" rIns="122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ministerial committe for the Environment (CIM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idation of safeguards and co-benefits monitoring report. National reporting to UNFC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471600">
                <a:tc>
                  <a:txBody>
                    <a:bodyPr lIns="122040" rIns="122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pendent Obser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quality assurance and cont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95160" y="1828440"/>
            <a:ext cx="10071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lease provide details of th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opportunitie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includ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What donors are involved in REDD+ in your country? How has this impacted the objective/design of your SIS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7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66ff"/>
                </a:solidFill>
                <a:latin typeface="Calibri"/>
              </a:rPr>
              <a:t>The donors are: UN-REDD  and the World Bank ( FCPF funds)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7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66ff"/>
                </a:solidFill>
                <a:latin typeface="Calibri"/>
              </a:rPr>
              <a:t>SIS design based on Decision 12/CP.17 of the UNFCCC, FCPF on the need to provide a summary on the implementation of safeguard measure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7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66ff"/>
                </a:solidFill>
                <a:latin typeface="Calibri"/>
              </a:rPr>
              <a:t>Pilot projects (CAZ, Makira) served as benchmarks for the development of indicators and questionnaires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Does your SIS have short and long term reporting objectives (initially, REDD+, later, expanding to forest sector or even broader)? Do you have plans to improve your SIS over time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7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66ff"/>
                </a:solidFill>
                <a:latin typeface="Calibri"/>
              </a:rPr>
              <a:t>Reporting within the national communication framework: every four yea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7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66ff"/>
                </a:solidFill>
                <a:latin typeface="Calibri"/>
              </a:rPr>
              <a:t>Reporting on project: year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7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66ff"/>
                </a:solidFill>
                <a:latin typeface="Calibri"/>
              </a:rPr>
              <a:t>At present, the SIS report is limited to the national REDD+ programme and project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7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66ff"/>
                </a:solidFill>
                <a:latin typeface="Calibri"/>
              </a:rPr>
              <a:t>Improvement is planned and will be carried out based on the progress  and needs of the programm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If the SIS is expected to gather and provide information for the FCPF purposes, how will the SESA and ESMF be used to inform the SIS?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7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66ff"/>
                </a:solidFill>
                <a:latin typeface="Calibri"/>
              </a:rPr>
              <a:t>SIS  builds upon SESA and ESFM indicators as well as the Resettlement Policy Framewor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523880" y="39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 Light"/>
              </a:rPr>
              <a:t>Strengths &amp; Opportunities : </a:t>
            </a:r>
            <a:br>
              <a:rPr sz="5400"/>
            </a:br>
            <a:r>
              <a:rPr b="0" lang="en-GB" sz="5400" spc="-1" strike="noStrike">
                <a:solidFill>
                  <a:srgbClr val="000000"/>
                </a:solidFill>
                <a:latin typeface="Calibri Light"/>
              </a:rPr>
              <a:t>What worked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95160" y="1828440"/>
            <a:ext cx="9972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lease provide details of th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challenge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you encounter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ere there challenges with the timing of the work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Calibri"/>
              </a:rPr>
              <a:t>SESA and Strategy development done at the same time as the SIS design process: </a:t>
            </a:r>
            <a:r>
              <a:rPr b="0" lang="en-GB" sz="1800" spc="-1" strike="noStrike">
                <a:solidFill>
                  <a:srgbClr val="0066ff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0066ff"/>
                </a:solidFill>
                <a:latin typeface="Calibri"/>
              </a:rPr>
              <a:t> pending inputs. SIS will probably need adjustment to the availability of the final version of the strategy (institutional  mechanism, indicators, etc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about logistics/cost or ensuring participation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Calibri"/>
              </a:rPr>
              <a:t>Isolation renders the study logistics expens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Calibri"/>
              </a:rPr>
              <a:t>Illiteracy makes participation difficul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ere there any difficulties in obtaining technical contributions from other government ministrie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Calibri"/>
              </a:rPr>
              <a:t>Unavailability of 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523880" y="458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 Light"/>
              </a:rPr>
              <a:t>Weaknesses &amp; Challenges: </a:t>
            </a:r>
            <a:br>
              <a:rPr sz="5400"/>
            </a:br>
            <a:r>
              <a:rPr b="0" lang="en-GB" sz="5400" spc="-1" strike="noStrike">
                <a:solidFill>
                  <a:srgbClr val="000000"/>
                </a:solidFill>
                <a:latin typeface="Calibri Light"/>
              </a:rPr>
              <a:t>What did not work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17160" y="1746000"/>
            <a:ext cx="1155708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lease provide details of th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lesson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includ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How is the SIS reporting process linked to safeguard implementation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7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66ff"/>
                </a:solidFill>
                <a:latin typeface="Calibri"/>
              </a:rPr>
              <a:t>Reference documents (SESA, Environmental and Social Management Plan), safeguards documents prepared by project developers; gathering and validation of information collected and reported. Through the monitoring of established indicators and reported information, the SIS will function as a tool to monitor the effective implementation of safeguard measure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What institutional arrangements have you developed to carry out the different functions (institutional mandates, information-sharing agreements)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7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66ff"/>
                </a:solidFill>
                <a:latin typeface="Calibri"/>
              </a:rPr>
              <a:t>National Platform (consultation and validation body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7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66ff"/>
                </a:solidFill>
                <a:latin typeface="Calibri"/>
              </a:rPr>
              <a:t>Conception and creation of a ‘group of experts on safeguards’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7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66ff"/>
                </a:solidFill>
                <a:latin typeface="Calibri"/>
              </a:rPr>
              <a:t>Responsibility charter, contract established between project developers, National REDD+ Bureau (BNC REDD) and beneficiaries (FPI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Have you developed an institutional diagram/SIS design document that clearly describes how the SIS will function (flow of information)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7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66ff"/>
                </a:solidFill>
                <a:latin typeface="Calibri"/>
              </a:rPr>
              <a:t>See next slide for institutional framewor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7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66ff"/>
                </a:solidFill>
                <a:latin typeface="Calibri"/>
              </a:rPr>
              <a:t>An SIS design document that clearly describes SIS operations was developed, in it we see information management processes and associated data bases (see pages 32-39 of report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What training have you planned to ensure that those responsible will be capable of carrying out their required responsibilities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7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66ff"/>
                </a:solidFill>
                <a:latin typeface="Calibri"/>
              </a:rPr>
              <a:t>Training and maintenance of software and equipm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7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66ff"/>
                </a:solidFill>
                <a:latin typeface="Calibri"/>
              </a:rPr>
              <a:t>Staggered training for operational  managers at regional and local levels for data gathering, verification and entry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327320" y="60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 Light"/>
              </a:rPr>
              <a:t>Lessons: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alibri Light"/>
              </a:rPr>
              <a:t>what we can share with others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ZoneTexte 3"/>
          <p:cNvSpPr/>
          <p:nvPr/>
        </p:nvSpPr>
        <p:spPr>
          <a:xfrm>
            <a:off x="2540160" y="79200"/>
            <a:ext cx="9524880" cy="337320"/>
          </a:xfrm>
          <a:prstGeom prst="rect">
            <a:avLst/>
          </a:prstGeom>
          <a:noFill/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DAGASCAR SIS REDD+ ORGANISATIONAL/INSTITUTIONAL 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oneTexte 4"/>
          <p:cNvSpPr/>
          <p:nvPr/>
        </p:nvSpPr>
        <p:spPr>
          <a:xfrm>
            <a:off x="127080" y="109440"/>
            <a:ext cx="2201760" cy="52020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Information providers (National, Regional, Loc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oneTexte 5"/>
          <p:cNvSpPr/>
          <p:nvPr/>
        </p:nvSpPr>
        <p:spPr>
          <a:xfrm>
            <a:off x="2567160" y="468360"/>
            <a:ext cx="2415960" cy="52020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National/ Regional  REDD+ Coordination Burea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6"/>
          <p:cNvSpPr/>
          <p:nvPr/>
        </p:nvSpPr>
        <p:spPr>
          <a:xfrm>
            <a:off x="5092560" y="517680"/>
            <a:ext cx="1913040" cy="27648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National Platform/P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oneTexte 7"/>
          <p:cNvSpPr/>
          <p:nvPr/>
        </p:nvSpPr>
        <p:spPr>
          <a:xfrm>
            <a:off x="7155000" y="404640"/>
            <a:ext cx="1671480" cy="52020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SG Ministry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ZoneTexte 8"/>
          <p:cNvSpPr/>
          <p:nvPr/>
        </p:nvSpPr>
        <p:spPr>
          <a:xfrm>
            <a:off x="8933040" y="409680"/>
            <a:ext cx="1384200" cy="52020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Steering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oneTexte 9"/>
          <p:cNvSpPr/>
          <p:nvPr/>
        </p:nvSpPr>
        <p:spPr>
          <a:xfrm>
            <a:off x="10553760" y="517680"/>
            <a:ext cx="1511280" cy="30708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G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oneTexte 10"/>
          <p:cNvSpPr/>
          <p:nvPr/>
        </p:nvSpPr>
        <p:spPr>
          <a:xfrm>
            <a:off x="127080" y="936720"/>
            <a:ext cx="2201760" cy="530604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oneTexte 11"/>
          <p:cNvSpPr/>
          <p:nvPr/>
        </p:nvSpPr>
        <p:spPr>
          <a:xfrm>
            <a:off x="2595600" y="936720"/>
            <a:ext cx="2496960" cy="530604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oneTexte 12"/>
          <p:cNvSpPr/>
          <p:nvPr/>
        </p:nvSpPr>
        <p:spPr>
          <a:xfrm>
            <a:off x="5092560" y="936720"/>
            <a:ext cx="1913040" cy="530604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13"/>
          <p:cNvSpPr/>
          <p:nvPr/>
        </p:nvSpPr>
        <p:spPr>
          <a:xfrm>
            <a:off x="7155000" y="936720"/>
            <a:ext cx="1671480" cy="530604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ZoneTexte 14"/>
          <p:cNvSpPr/>
          <p:nvPr/>
        </p:nvSpPr>
        <p:spPr>
          <a:xfrm>
            <a:off x="8902800" y="936720"/>
            <a:ext cx="1427040" cy="530604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ZoneTexte 15"/>
          <p:cNvSpPr/>
          <p:nvPr/>
        </p:nvSpPr>
        <p:spPr>
          <a:xfrm>
            <a:off x="10497960" y="961920"/>
            <a:ext cx="1673280" cy="520884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er 18"/>
          <p:cNvGrpSpPr/>
          <p:nvPr/>
        </p:nvGrpSpPr>
        <p:grpSpPr>
          <a:xfrm>
            <a:off x="127080" y="1127160"/>
            <a:ext cx="2201760" cy="873000"/>
            <a:chOff x="127080" y="1127160"/>
            <a:chExt cx="2201760" cy="873000"/>
          </a:xfrm>
        </p:grpSpPr>
        <p:sp>
          <p:nvSpPr>
            <p:cNvPr id="123" name="ZoneTexte 16"/>
            <p:cNvSpPr/>
            <p:nvPr/>
          </p:nvSpPr>
          <p:spPr>
            <a:xfrm>
              <a:off x="127080" y="1127160"/>
              <a:ext cx="2201760" cy="24624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Report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ZoneTexte 17"/>
            <p:cNvSpPr/>
            <p:nvPr/>
          </p:nvSpPr>
          <p:spPr>
            <a:xfrm>
              <a:off x="127080" y="1449360"/>
              <a:ext cx="2201760" cy="550800"/>
            </a:xfrm>
            <a:prstGeom prst="rect">
              <a:avLst/>
            </a:prstGeom>
            <a:noFill/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Periodic report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Answers ques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Update inform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er 19"/>
          <p:cNvGrpSpPr/>
          <p:nvPr/>
        </p:nvGrpSpPr>
        <p:grpSpPr>
          <a:xfrm>
            <a:off x="2709720" y="1197000"/>
            <a:ext cx="2273400" cy="984240"/>
            <a:chOff x="2709720" y="1197000"/>
            <a:chExt cx="2273400" cy="984240"/>
          </a:xfrm>
        </p:grpSpPr>
        <p:sp>
          <p:nvSpPr>
            <p:cNvPr id="126" name="ZoneTexte 20"/>
            <p:cNvSpPr/>
            <p:nvPr/>
          </p:nvSpPr>
          <p:spPr>
            <a:xfrm>
              <a:off x="2709720" y="1197000"/>
              <a:ext cx="2273400" cy="24624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Collect and centralise 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ZoneTexte 21"/>
            <p:cNvSpPr/>
            <p:nvPr/>
          </p:nvSpPr>
          <p:spPr>
            <a:xfrm>
              <a:off x="2709720" y="1630440"/>
              <a:ext cx="2252880" cy="550800"/>
            </a:xfrm>
            <a:prstGeom prst="rect">
              <a:avLst/>
            </a:prstGeom>
            <a:noFill/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Coordinates data colle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Receives 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Relaunch/del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er 22"/>
          <p:cNvGrpSpPr/>
          <p:nvPr/>
        </p:nvGrpSpPr>
        <p:grpSpPr>
          <a:xfrm>
            <a:off x="2695680" y="2266920"/>
            <a:ext cx="2273040" cy="841320"/>
            <a:chOff x="2695680" y="2266920"/>
            <a:chExt cx="2273040" cy="841320"/>
          </a:xfrm>
        </p:grpSpPr>
        <p:sp>
          <p:nvSpPr>
            <p:cNvPr id="129" name="ZoneTexte 23"/>
            <p:cNvSpPr/>
            <p:nvPr/>
          </p:nvSpPr>
          <p:spPr>
            <a:xfrm>
              <a:off x="2695680" y="2266920"/>
              <a:ext cx="2273040" cy="24624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Proc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ZoneTexte 24"/>
            <p:cNvSpPr/>
            <p:nvPr/>
          </p:nvSpPr>
          <p:spPr>
            <a:xfrm>
              <a:off x="2695680" y="2557440"/>
              <a:ext cx="2273040" cy="550800"/>
            </a:xfrm>
            <a:prstGeom prst="rect">
              <a:avLst/>
            </a:prstGeom>
            <a:noFill/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Reconci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Analyse and ass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Stoc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er 25"/>
          <p:cNvGrpSpPr/>
          <p:nvPr/>
        </p:nvGrpSpPr>
        <p:grpSpPr>
          <a:xfrm>
            <a:off x="2689200" y="3371760"/>
            <a:ext cx="2273400" cy="601560"/>
            <a:chOff x="2689200" y="3371760"/>
            <a:chExt cx="2273400" cy="601560"/>
          </a:xfrm>
        </p:grpSpPr>
        <p:sp>
          <p:nvSpPr>
            <p:cNvPr id="132" name="ZoneTexte 26"/>
            <p:cNvSpPr/>
            <p:nvPr/>
          </p:nvSpPr>
          <p:spPr>
            <a:xfrm>
              <a:off x="2689200" y="3371760"/>
              <a:ext cx="2273400" cy="24624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Internal valid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ZoneTexte 27"/>
            <p:cNvSpPr/>
            <p:nvPr/>
          </p:nvSpPr>
          <p:spPr>
            <a:xfrm>
              <a:off x="2689200" y="3574800"/>
              <a:ext cx="2273400" cy="398520"/>
            </a:xfrm>
            <a:prstGeom prst="rect">
              <a:avLst/>
            </a:prstGeom>
            <a:noFill/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Request for modif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er 28"/>
          <p:cNvGrpSpPr/>
          <p:nvPr/>
        </p:nvGrpSpPr>
        <p:grpSpPr>
          <a:xfrm>
            <a:off x="2682720" y="4070520"/>
            <a:ext cx="2273400" cy="677880"/>
            <a:chOff x="2682720" y="4070520"/>
            <a:chExt cx="2273400" cy="677880"/>
          </a:xfrm>
        </p:grpSpPr>
        <p:sp>
          <p:nvSpPr>
            <p:cNvPr id="135" name="ZoneTexte 29"/>
            <p:cNvSpPr/>
            <p:nvPr/>
          </p:nvSpPr>
          <p:spPr>
            <a:xfrm>
              <a:off x="2682720" y="4070520"/>
              <a:ext cx="2273400" cy="24624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Dissemin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ZoneTexte 30"/>
            <p:cNvSpPr/>
            <p:nvPr/>
          </p:nvSpPr>
          <p:spPr>
            <a:xfrm>
              <a:off x="2682720" y="4349880"/>
              <a:ext cx="2273400" cy="398520"/>
            </a:xfrm>
            <a:prstGeom prst="rect">
              <a:avLst/>
            </a:prstGeom>
            <a:noFill/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Formatt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Forward (CCNUCC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er 31"/>
          <p:cNvGrpSpPr/>
          <p:nvPr/>
        </p:nvGrpSpPr>
        <p:grpSpPr>
          <a:xfrm>
            <a:off x="2682720" y="4900680"/>
            <a:ext cx="2273400" cy="630360"/>
            <a:chOff x="2682720" y="4900680"/>
            <a:chExt cx="2273400" cy="630360"/>
          </a:xfrm>
        </p:grpSpPr>
        <p:sp>
          <p:nvSpPr>
            <p:cNvPr id="138" name="ZoneTexte 32"/>
            <p:cNvSpPr/>
            <p:nvPr/>
          </p:nvSpPr>
          <p:spPr>
            <a:xfrm>
              <a:off x="2682720" y="4900680"/>
              <a:ext cx="2273400" cy="24624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Independent assessment of the 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ZoneTexte 33"/>
            <p:cNvSpPr/>
            <p:nvPr/>
          </p:nvSpPr>
          <p:spPr>
            <a:xfrm>
              <a:off x="2682720" y="5284800"/>
              <a:ext cx="2273400" cy="246240"/>
            </a:xfrm>
            <a:prstGeom prst="rect">
              <a:avLst/>
            </a:prstGeom>
            <a:noFill/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Assess perform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er 34"/>
          <p:cNvGrpSpPr/>
          <p:nvPr/>
        </p:nvGrpSpPr>
        <p:grpSpPr>
          <a:xfrm>
            <a:off x="2708280" y="5634000"/>
            <a:ext cx="2670120" cy="830520"/>
            <a:chOff x="2708280" y="5634000"/>
            <a:chExt cx="2670120" cy="830520"/>
          </a:xfrm>
        </p:grpSpPr>
        <p:sp>
          <p:nvSpPr>
            <p:cNvPr id="141" name="ZoneTexte 35"/>
            <p:cNvSpPr/>
            <p:nvPr/>
          </p:nvSpPr>
          <p:spPr>
            <a:xfrm>
              <a:off x="2708280" y="5634000"/>
              <a:ext cx="2273400" cy="24624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Improve 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ZoneTexte 36"/>
            <p:cNvSpPr/>
            <p:nvPr/>
          </p:nvSpPr>
          <p:spPr>
            <a:xfrm>
              <a:off x="3087720" y="6066000"/>
              <a:ext cx="2290680" cy="398520"/>
            </a:xfrm>
            <a:prstGeom prst="rect">
              <a:avLst/>
            </a:prstGeom>
            <a:noFill/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Validate technical resolu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support ,advice and strategic dire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3" name="Connecteur en angle 38"/>
          <p:cNvCxnSpPr>
            <a:endCxn id="126" idx="0"/>
          </p:cNvCxnSpPr>
          <p:nvPr/>
        </p:nvCxnSpPr>
        <p:spPr>
          <a:xfrm>
            <a:off x="2328840" y="1039320"/>
            <a:ext cx="1518480" cy="158040"/>
          </a:xfrm>
          <a:prstGeom prst="bentConnector2">
            <a:avLst/>
          </a:prstGeom>
          <a:ln w="12600">
            <a:solidFill>
              <a:srgbClr val="4472c4"/>
            </a:solidFill>
            <a:miter/>
            <a:tailEnd len="med" type="arrow" w="med"/>
          </a:ln>
        </p:spPr>
      </p:cxnSp>
      <p:cxnSp>
        <p:nvCxnSpPr>
          <p:cNvPr id="144" name="Connecteur en angle 45"/>
          <p:cNvCxnSpPr/>
          <p:nvPr/>
        </p:nvCxnSpPr>
        <p:spPr>
          <a:xfrm rot="10800000">
            <a:off x="1197720" y="1971000"/>
            <a:ext cx="1447200" cy="180000"/>
          </a:xfrm>
          <a:prstGeom prst="bentConnector2">
            <a:avLst/>
          </a:prstGeom>
          <a:ln w="12600">
            <a:solidFill>
              <a:srgbClr val="4472c4"/>
            </a:solidFill>
            <a:miter/>
            <a:tailEnd len="med" type="arrow" w="med"/>
          </a:ln>
        </p:spPr>
      </p:cxnSp>
      <p:cxnSp>
        <p:nvCxnSpPr>
          <p:cNvPr id="145" name="Connecteur en angle 52"/>
          <p:cNvCxnSpPr/>
          <p:nvPr/>
        </p:nvCxnSpPr>
        <p:spPr>
          <a:xfrm rot="5400000">
            <a:off x="4339800" y="3128760"/>
            <a:ext cx="238680" cy="248400"/>
          </a:xfrm>
          <a:prstGeom prst="bentConnector3">
            <a:avLst>
              <a:gd name="adj1" fmla="val 50000"/>
            </a:avLst>
          </a:prstGeom>
          <a:ln w="12600">
            <a:solidFill>
              <a:srgbClr val="4472c4"/>
            </a:solidFill>
            <a:miter/>
            <a:tailEnd len="med" type="arrow" w="med"/>
          </a:ln>
        </p:spPr>
      </p:cxnSp>
      <p:cxnSp>
        <p:nvCxnSpPr>
          <p:cNvPr id="146" name="Connecteur en angle 54"/>
          <p:cNvCxnSpPr>
            <a:stCxn id="127" idx="2"/>
            <a:endCxn id="129" idx="0"/>
          </p:cNvCxnSpPr>
          <p:nvPr/>
        </p:nvCxnSpPr>
        <p:spPr>
          <a:xfrm rot="5400000">
            <a:off x="3804480" y="2234880"/>
            <a:ext cx="59400" cy="5400"/>
          </a:xfrm>
          <a:prstGeom prst="bentConnector3">
            <a:avLst>
              <a:gd name="adj1" fmla="val 50000"/>
            </a:avLst>
          </a:prstGeom>
          <a:ln w="12600">
            <a:solidFill>
              <a:srgbClr val="4472c4"/>
            </a:solidFill>
            <a:miter/>
            <a:tailEnd len="med" type="arrow" w="med"/>
          </a:ln>
        </p:spPr>
      </p:cxnSp>
      <p:grpSp>
        <p:nvGrpSpPr>
          <p:cNvPr id="147" name="Grouper 55"/>
          <p:cNvGrpSpPr/>
          <p:nvPr/>
        </p:nvGrpSpPr>
        <p:grpSpPr>
          <a:xfrm>
            <a:off x="5092560" y="1343160"/>
            <a:ext cx="1913040" cy="781200"/>
            <a:chOff x="5092560" y="1343160"/>
            <a:chExt cx="1913040" cy="781200"/>
          </a:xfrm>
        </p:grpSpPr>
        <p:sp>
          <p:nvSpPr>
            <p:cNvPr id="148" name="ZoneTexte 56"/>
            <p:cNvSpPr/>
            <p:nvPr/>
          </p:nvSpPr>
          <p:spPr>
            <a:xfrm>
              <a:off x="5092560" y="1343160"/>
              <a:ext cx="1913040" cy="24624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Define strategic dire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ZoneTexte 57"/>
            <p:cNvSpPr/>
            <p:nvPr/>
          </p:nvSpPr>
          <p:spPr>
            <a:xfrm>
              <a:off x="5092560" y="1725840"/>
              <a:ext cx="1913040" cy="398520"/>
            </a:xfrm>
            <a:prstGeom prst="rect">
              <a:avLst/>
            </a:prstGeom>
            <a:noFill/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Definition of strategic dire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Deliberate on data consist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0" name="Connecteur en angle 63"/>
          <p:cNvCxnSpPr/>
          <p:nvPr/>
        </p:nvCxnSpPr>
        <p:spPr>
          <a:xfrm flipH="1">
            <a:off x="4998600" y="2784960"/>
            <a:ext cx="1321200" cy="848520"/>
          </a:xfrm>
          <a:prstGeom prst="bentConnector3">
            <a:avLst>
              <a:gd name="adj1" fmla="val -2970"/>
            </a:avLst>
          </a:prstGeom>
          <a:ln w="12600">
            <a:solidFill>
              <a:srgbClr val="4472c4"/>
            </a:solidFill>
            <a:miter/>
            <a:tailEnd len="med" type="arrow" w="med"/>
          </a:ln>
        </p:spPr>
      </p:cxnSp>
      <p:grpSp>
        <p:nvGrpSpPr>
          <p:cNvPr id="151" name="Grouper 67"/>
          <p:cNvGrpSpPr/>
          <p:nvPr/>
        </p:nvGrpSpPr>
        <p:grpSpPr>
          <a:xfrm>
            <a:off x="7155000" y="3898800"/>
            <a:ext cx="1671480" cy="687600"/>
            <a:chOff x="7155000" y="3898800"/>
            <a:chExt cx="1671480" cy="687600"/>
          </a:xfrm>
        </p:grpSpPr>
        <p:sp>
          <p:nvSpPr>
            <p:cNvPr id="152" name="ZoneTexte 68"/>
            <p:cNvSpPr/>
            <p:nvPr/>
          </p:nvSpPr>
          <p:spPr>
            <a:xfrm>
              <a:off x="7155000" y="3898800"/>
              <a:ext cx="1671480" cy="24624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Approv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ZoneTexte 69"/>
            <p:cNvSpPr/>
            <p:nvPr/>
          </p:nvSpPr>
          <p:spPr>
            <a:xfrm>
              <a:off x="7155000" y="4187880"/>
              <a:ext cx="1671480" cy="398520"/>
            </a:xfrm>
            <a:prstGeom prst="rect">
              <a:avLst/>
            </a:prstGeom>
            <a:noFill/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Moni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Requests modification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4" name="Connecteur en angle 72"/>
          <p:cNvCxnSpPr>
            <a:endCxn id="136" idx="3"/>
          </p:cNvCxnSpPr>
          <p:nvPr/>
        </p:nvCxnSpPr>
        <p:spPr>
          <a:xfrm flipV="1" rot="10800000">
            <a:off x="4955400" y="4348800"/>
            <a:ext cx="2199600" cy="216360"/>
          </a:xfrm>
          <a:prstGeom prst="bentConnector3">
            <a:avLst>
              <a:gd name="adj1" fmla="val 82517"/>
            </a:avLst>
          </a:prstGeom>
          <a:ln w="12600">
            <a:solidFill>
              <a:srgbClr val="4472c4"/>
            </a:solidFill>
            <a:miter/>
            <a:tailEnd len="med" type="arrow" w="med"/>
          </a:ln>
        </p:spPr>
      </p:cxnSp>
      <p:cxnSp>
        <p:nvCxnSpPr>
          <p:cNvPr id="155" name="Connecteur en angle 75"/>
          <p:cNvCxnSpPr>
            <a:stCxn id="133" idx="3"/>
          </p:cNvCxnSpPr>
          <p:nvPr/>
        </p:nvCxnSpPr>
        <p:spPr>
          <a:xfrm>
            <a:off x="4962600" y="3782520"/>
            <a:ext cx="2193120" cy="288360"/>
          </a:xfrm>
          <a:prstGeom prst="bentConnector3">
            <a:avLst>
              <a:gd name="adj1" fmla="val 49991"/>
            </a:avLst>
          </a:prstGeom>
          <a:ln w="12600">
            <a:solidFill>
              <a:srgbClr val="4472c4"/>
            </a:solidFill>
            <a:miter/>
            <a:tailEnd len="med" type="arrow" w="med"/>
          </a:ln>
        </p:spPr>
      </p:cxnSp>
      <p:grpSp>
        <p:nvGrpSpPr>
          <p:cNvPr id="156" name="Grouper 77"/>
          <p:cNvGrpSpPr/>
          <p:nvPr/>
        </p:nvGrpSpPr>
        <p:grpSpPr>
          <a:xfrm>
            <a:off x="8945640" y="4070520"/>
            <a:ext cx="1384200" cy="754200"/>
            <a:chOff x="8945640" y="4070520"/>
            <a:chExt cx="1384200" cy="754200"/>
          </a:xfrm>
        </p:grpSpPr>
        <p:sp>
          <p:nvSpPr>
            <p:cNvPr id="157" name="ZoneTexte 78"/>
            <p:cNvSpPr/>
            <p:nvPr/>
          </p:nvSpPr>
          <p:spPr>
            <a:xfrm>
              <a:off x="8945640" y="4070520"/>
              <a:ext cx="1384200" cy="24624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Assessment of the 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ZoneTexte 79"/>
            <p:cNvSpPr/>
            <p:nvPr/>
          </p:nvSpPr>
          <p:spPr>
            <a:xfrm>
              <a:off x="8945640" y="4426200"/>
              <a:ext cx="1384200" cy="398520"/>
            </a:xfrm>
            <a:prstGeom prst="rect">
              <a:avLst/>
            </a:prstGeom>
            <a:noFill/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Mandate assessment every four ye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9" name="Connecteur en angle 81"/>
          <p:cNvCxnSpPr>
            <a:stCxn id="158" idx="2"/>
          </p:cNvCxnSpPr>
          <p:nvPr/>
        </p:nvCxnSpPr>
        <p:spPr>
          <a:xfrm rot="5400000">
            <a:off x="7055280" y="2748960"/>
            <a:ext cx="489600" cy="4675320"/>
          </a:xfrm>
          <a:prstGeom prst="bentConnector2">
            <a:avLst/>
          </a:prstGeom>
          <a:ln w="12600">
            <a:solidFill>
              <a:srgbClr val="4472c4"/>
            </a:solidFill>
            <a:miter/>
            <a:tailEnd len="med" type="arrow" w="med"/>
          </a:ln>
        </p:spPr>
      </p:cxnSp>
      <p:grpSp>
        <p:nvGrpSpPr>
          <p:cNvPr id="160" name="Grouper 85"/>
          <p:cNvGrpSpPr/>
          <p:nvPr/>
        </p:nvGrpSpPr>
        <p:grpSpPr>
          <a:xfrm>
            <a:off x="10558440" y="5459400"/>
            <a:ext cx="1506600" cy="671760"/>
            <a:chOff x="10558440" y="5459400"/>
            <a:chExt cx="1506600" cy="671760"/>
          </a:xfrm>
        </p:grpSpPr>
        <p:sp>
          <p:nvSpPr>
            <p:cNvPr id="161" name="ZoneTexte 86"/>
            <p:cNvSpPr/>
            <p:nvPr/>
          </p:nvSpPr>
          <p:spPr>
            <a:xfrm>
              <a:off x="10558440" y="5459400"/>
              <a:ext cx="1506600" cy="24624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Improve  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ZoneTexte 87"/>
            <p:cNvSpPr/>
            <p:nvPr/>
          </p:nvSpPr>
          <p:spPr>
            <a:xfrm>
              <a:off x="10558440" y="5732640"/>
              <a:ext cx="1506600" cy="398520"/>
            </a:xfrm>
            <a:prstGeom prst="rect">
              <a:avLst/>
            </a:prstGeom>
            <a:noFill/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Support/advice and strategic dire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3" name="Connecteur droit avec flèche 89"/>
          <p:cNvCxnSpPr>
            <a:endCxn id="141" idx="3"/>
          </p:cNvCxnSpPr>
          <p:nvPr/>
        </p:nvCxnSpPr>
        <p:spPr>
          <a:xfrm flipH="1">
            <a:off x="4980960" y="5763960"/>
            <a:ext cx="5517000" cy="1080"/>
          </a:xfrm>
          <a:prstGeom prst="straightConnector1">
            <a:avLst/>
          </a:prstGeom>
          <a:ln w="12600">
            <a:solidFill>
              <a:srgbClr val="4472c4"/>
            </a:solidFill>
            <a:miter/>
            <a:tailEnd len="med" type="arrow" w="med"/>
          </a:ln>
        </p:spPr>
      </p:cxnSp>
      <p:cxnSp>
        <p:nvCxnSpPr>
          <p:cNvPr id="164" name="Connecteur droit avec flèche 91"/>
          <p:cNvCxnSpPr/>
          <p:nvPr/>
        </p:nvCxnSpPr>
        <p:spPr>
          <a:xfrm flipV="1">
            <a:off x="4998600" y="6065280"/>
            <a:ext cx="5499720" cy="1080"/>
          </a:xfrm>
          <a:prstGeom prst="straightConnector1">
            <a:avLst/>
          </a:prstGeom>
          <a:ln w="12600">
            <a:solidFill>
              <a:srgbClr val="4472c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9T06:06:00Z</dcterms:created>
  <dc:creator>sebastien</dc:creator>
  <dc:description/>
  <dc:language>en-US</dc:language>
  <cp:lastModifiedBy>Thais Narciso</cp:lastModifiedBy>
  <dcterms:modified xsi:type="dcterms:W3CDTF">2018-06-13T07:07:25Z</dcterms:modified>
  <cp:revision>114</cp:revision>
  <dc:subject/>
  <dc:title>PowerPoint Presentation</dc:title>
</cp:coreProperties>
</file>