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8F29-22C3-4244-9DC9-54907848EE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6BE0-52AB-47A7-B36B-D0DA1D0D4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3711-DF9D-4865-B79E-539E7CAE4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937-705E-40AD-AA5D-77AE9DC00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90E2-2E23-4A74-AB5A-ECE9AFEBF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CD31-D09E-439C-BC52-AF7FF5D26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E2D-F7CA-49AF-9284-279B14A6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DE0-C4D6-45C8-890B-A4113420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67B-FFCC-464D-8494-74A65B4C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ABF-741C-4E8A-A4B2-653CE8B1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C2A-1562-4ACD-9EBC-44C263ED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9A0-FE30-44A3-8DAE-54B15CE0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878-D5B5-42D2-A959-5332F681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310-AC95-4726-B7CE-03A73B54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040-9DDA-4467-BCE3-CD8C9B05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5AF-9434-4B0A-964C-397136A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1D0-79D7-421C-983D-70F82C1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C44-FB07-4972-8344-81F2A365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A90-00E1-41BD-AB37-A8A1907D56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is-redd-madagascar.webou.net/scripts/" TargetMode="External"/><Relationship Id="rId2" Type="http://schemas.openxmlformats.org/officeDocument/2006/relationships/hyperlink" Target="https://www.bnc-redd.m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Présentate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MAMITIANA Andriamanjat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JAOZANDRY Jean Jacqu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BUREAU National de Coordination REDD+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[Merci de fournir des éléments de contexte par rapport á l’état d’avancement général de votre préparation à la REDD+ avant d'entrer dans les détails du travail sur les sauvegardes – 2 minutes maximum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Conception d’un Système d’Information sur les Sauvegarde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2514600" y="54864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Calibri"/>
              </a:rPr>
              <a:t>Echange de connaissances régional Sud-Sud sur les Sauvegardes REDD+ et les Systèmes d’Information sur les Sauvegardes en Afr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bri"/>
              </a:rPr>
              <a:t>Accra.  12 – 13 Juin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31640" y="312840"/>
            <a:ext cx="935028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Le processus national de prépar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à la REDD+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entagon 3"/>
          <p:cNvSpPr/>
          <p:nvPr/>
        </p:nvSpPr>
        <p:spPr>
          <a:xfrm>
            <a:off x="463680" y="2031840"/>
            <a:ext cx="9828000" cy="2514600"/>
          </a:xfrm>
          <a:custGeom>
            <a:avLst/>
            <a:gdLst>
              <a:gd name="textAreaLeft" fmla="*/ 0 w 9828000"/>
              <a:gd name="textAreaRight" fmla="*/ 9828360 w 9828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9" y="0"/>
                </a:lnTo>
                <a:lnTo>
                  <a:pt x="21600" y="10800"/>
                </a:lnTo>
                <a:lnTo>
                  <a:pt x="1981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fae0"/>
              </a:gs>
              <a:gs pos="100000">
                <a:srgbClr val="bef397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52600" y="203976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Phase de pré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entagon 5"/>
          <p:cNvSpPr/>
          <p:nvPr/>
        </p:nvSpPr>
        <p:spPr>
          <a:xfrm>
            <a:off x="2295360" y="4008600"/>
            <a:ext cx="9448920" cy="2228760"/>
          </a:xfrm>
          <a:custGeom>
            <a:avLst/>
            <a:gdLst>
              <a:gd name="textAreaLeft" fmla="*/ 0 w 9448920"/>
              <a:gd name="textAreaRight" fmla="*/ 9449280 w 944892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0" y="0"/>
                </a:lnTo>
                <a:lnTo>
                  <a:pt x="21600" y="10800"/>
                </a:lnTo>
                <a:lnTo>
                  <a:pt x="1978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fae0"/>
              </a:gs>
              <a:gs pos="100000">
                <a:srgbClr val="bef397"/>
              </a:gs>
            </a:gsLst>
            <a:lin ang="135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327400" y="402264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472c4"/>
                </a:solidFill>
                <a:latin typeface="Calibri"/>
                <a:ea typeface="Arial"/>
              </a:rPr>
              <a:t>Phase de mise en œuvre - P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505240" y="23464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6600"/>
                </a:solidFill>
                <a:latin typeface="Calibri"/>
                <a:ea typeface="Arial"/>
              </a:rPr>
              <a:t>Oct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8"/>
          <p:cNvSpPr/>
          <p:nvPr/>
        </p:nvSpPr>
        <p:spPr>
          <a:xfrm>
            <a:off x="2381400" y="2565360"/>
            <a:ext cx="290808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9"/>
          <p:cNvSpPr/>
          <p:nvPr/>
        </p:nvSpPr>
        <p:spPr>
          <a:xfrm flipV="1">
            <a:off x="2914560" y="2565360"/>
            <a:ext cx="0" cy="7632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295360" y="2643120"/>
            <a:ext cx="138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Financement du FC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5381640" y="232092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5562720" y="256716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 flipV="1">
            <a:off x="5877000" y="2566800"/>
            <a:ext cx="0" cy="759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289480" y="2631960"/>
            <a:ext cx="19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Stratégie nationale, NR/SNSF et SIS , MGP, 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7272360" y="231624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Juin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210440" y="255420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 flipV="1">
            <a:off x="7705800" y="256536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7155000" y="2631960"/>
            <a:ext cx="216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Plan d’investissement et Fonds national REDD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3424320" y="43354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6600"/>
                </a:solidFill>
                <a:latin typeface="Calibri"/>
                <a:ea typeface="Arial"/>
              </a:rPr>
              <a:t>Oct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0"/>
          <p:cNvSpPr/>
          <p:nvPr/>
        </p:nvSpPr>
        <p:spPr>
          <a:xfrm>
            <a:off x="3548160" y="4610160"/>
            <a:ext cx="102852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1"/>
          <p:cNvSpPr/>
          <p:nvPr/>
        </p:nvSpPr>
        <p:spPr>
          <a:xfrm flipV="1">
            <a:off x="3949560" y="4613040"/>
            <a:ext cx="0" cy="7596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3187800" y="470520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ER-PIN approuvé par le FCP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6570720" y="4332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Mars.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4"/>
          <p:cNvSpPr/>
          <p:nvPr/>
        </p:nvSpPr>
        <p:spPr>
          <a:xfrm>
            <a:off x="6605640" y="461628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5"/>
          <p:cNvSpPr/>
          <p:nvPr/>
        </p:nvSpPr>
        <p:spPr>
          <a:xfrm flipV="1">
            <a:off x="7139160" y="461628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6603840" y="47307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ER-PA signé avec le FCP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8010360" y="433692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Déc.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8"/>
          <p:cNvSpPr/>
          <p:nvPr/>
        </p:nvSpPr>
        <p:spPr>
          <a:xfrm>
            <a:off x="7786800" y="461340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9"/>
          <p:cNvSpPr/>
          <p:nvPr/>
        </p:nvSpPr>
        <p:spPr>
          <a:xfrm flipV="1">
            <a:off x="8319960" y="4613040"/>
            <a:ext cx="0" cy="759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0"/>
          <p:cNvSpPr/>
          <p:nvPr/>
        </p:nvSpPr>
        <p:spPr>
          <a:xfrm>
            <a:off x="8109000" y="46893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Résultats nationa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9380520" y="4330800"/>
            <a:ext cx="15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2017-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2"/>
          <p:cNvSpPr/>
          <p:nvPr/>
        </p:nvSpPr>
        <p:spPr>
          <a:xfrm>
            <a:off x="9501120" y="4587840"/>
            <a:ext cx="102888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3"/>
          <p:cNvSpPr/>
          <p:nvPr/>
        </p:nvSpPr>
        <p:spPr>
          <a:xfrm flipV="1">
            <a:off x="10034640" y="458784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9501120" y="46134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Autres accords de paiements aux résul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5289480" y="5548320"/>
            <a:ext cx="42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Convergence de financements nationaux et internationaux addi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751200" y="2319480"/>
            <a:ext cx="21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6600"/>
                </a:solidFill>
                <a:latin typeface="Calibri"/>
                <a:ea typeface="Arial"/>
              </a:rPr>
              <a:t>2015 – mi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3510000" y="2541600"/>
            <a:ext cx="191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Analyses d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Définition Options stratégiques/politiques et me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743280" y="3336840"/>
            <a:ext cx="278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Montage dispositi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-institutionnel, jurid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-financ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6283440" y="3346560"/>
            <a:ext cx="347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Dialogues politiques nationaux et internationaux</a:t>
            </a:r>
            <a:r>
              <a:rPr b="0" i="1" lang="fr-FR" sz="1200" spc="-1" strike="noStrike">
                <a:solidFill>
                  <a:srgbClr val="262626"/>
                </a:solidFill>
                <a:latin typeface="Calibri"/>
              </a:rPr>
              <a:t>: Intégration politique et cadre légal : reformes sectori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necteur droit 67"/>
          <p:cNvSpPr/>
          <p:nvPr/>
        </p:nvSpPr>
        <p:spPr>
          <a:xfrm>
            <a:off x="2505240" y="3349800"/>
            <a:ext cx="7257960" cy="15840"/>
          </a:xfrm>
          <a:prstGeom prst="line">
            <a:avLst/>
          </a:prstGeom>
          <a:ln w="648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cteur droit 70"/>
          <p:cNvSpPr/>
          <p:nvPr/>
        </p:nvSpPr>
        <p:spPr>
          <a:xfrm flipV="1">
            <a:off x="4976640" y="5416200"/>
            <a:ext cx="5675400" cy="27000"/>
          </a:xfrm>
          <a:prstGeom prst="line">
            <a:avLst/>
          </a:prstGeom>
          <a:ln w="648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977760" y="232092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6600"/>
                </a:solidFill>
                <a:latin typeface="Calibri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0"/>
          <p:cNvSpPr/>
          <p:nvPr/>
        </p:nvSpPr>
        <p:spPr>
          <a:xfrm>
            <a:off x="736560" y="2554200"/>
            <a:ext cx="132408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946080" y="280980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Formulation R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689040" y="259380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R-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5289480" y="4346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c00000"/>
                </a:solidFill>
                <a:latin typeface="Calibri"/>
                <a:ea typeface="Arial"/>
              </a:rPr>
              <a:t>Déc.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5"/>
          <p:cNvSpPr/>
          <p:nvPr/>
        </p:nvSpPr>
        <p:spPr>
          <a:xfrm>
            <a:off x="5275440" y="461628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6"/>
          <p:cNvSpPr/>
          <p:nvPr/>
        </p:nvSpPr>
        <p:spPr>
          <a:xfrm flipV="1">
            <a:off x="5808600" y="461628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7"/>
          <p:cNvSpPr/>
          <p:nvPr/>
        </p:nvSpPr>
        <p:spPr>
          <a:xfrm>
            <a:off x="5129280" y="4680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62626"/>
                </a:solidFill>
                <a:latin typeface="Calibri"/>
              </a:rPr>
              <a:t>Validation ERP par le fonds car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96880" y="1261800"/>
            <a:ext cx="99727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Veuillez donner des précisions sur le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processus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 que vous avez suivi, y compri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Quel processus avez-vous poursuit pour déterminer les informations que votre SIS va collecter et fournir (besoins d'informations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Processus qui se résume comme suit : (i) la mise en place du cadre conceptuel du SIS composé principalement des principes, critères et les indicateurs (garantie de Cancun adapté aux contextes nationaux) , (ii) l’établissement de l’état zéro sur la base des informations disponibles au niveau des deux projets REDD+ existants, (iii) l’élaboration du protocole de suivi , (iv) l’élaboration du système de gestion de base de données et le renforcement des capacités des utilisateu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Quel format utiliserez-vous pour collecter des informations (PCIs, texte narratif, modèles de rapports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Questionnaire validée par toutes les parties prenantes notamment la Plateforme Nationale (conçues et testées, avec des objectifs mesurable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vez-vous déjà défini les fonctions de votre SIS (collecte, agrégation, analyse, rapport, diffusion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OUI voir le tableau ci desso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vez-vous une idée claire des systèmes d'information existants et des sources pertinentes pour le SIS? Si non, avez-vous commandé des études ou des analyses spécifique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Etude confiée à un prestataire pour identifier les sources d’information, le fonctionnement du système depuis la collecte des données jusqu’à sa diffusion (schéma égalemen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vez-vous identifié quelle institution / agence devrait héberger - et / ou être responsable du SI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Le MEEF à travers le BNC REDD hébergera le SIS, Un employé du MEEF assurera son fonctionnement. Il sera assisté par les BRC REDD pour la collecte des donné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vez-vous envisagé de créer une plateforme Web dédiée au partage / à la diffusion des informations? Si oui, quels devraient être les aspects clés de cette plateforme Web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sis-redd-madagascar.webou.net/scripts/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www.bnc-redd.m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Qui sera responsable de chaque fonction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Comment votre SIS est-il financé / budgétisé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Collecte des données pour chaque projet : financés par les promoteu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Fonctionnement du système (matériels et équipements, formation, etc.) : financement prévus dans la Stratégie REDD+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82800" y="304560"/>
            <a:ext cx="95868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Processus : ce que nous avons fai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47600"/>
            <a:ext cx="109728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 Light"/>
              </a:rPr>
              <a:t>SIS: Entités et Responsabilité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647640"/>
          <a:ext cx="11433240" cy="6448320"/>
        </p:xfrm>
        <a:graphic>
          <a:graphicData uri="http://schemas.openxmlformats.org/drawingml/2006/table">
            <a:tbl>
              <a:tblPr/>
              <a:tblGrid>
                <a:gridCol w="2970360"/>
                <a:gridCol w="8462880"/>
              </a:tblGrid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nir les données depuis la conception et le suivi de mise en œuvre (fiche de tri, PGES, PDD,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eau Exécutif du M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ôle qualité de l’information, vérification sur si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9169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C-RE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ivi de l’application des mesures de sauvegard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ecte et consolidation des données, contrôle et assurance de la qualité de l’information, envoi des rapports au BNC-REDD/PFN pour dif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té de suivi de la MO des Plans de sauvegar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ivi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 l’application des mesures de sauvegar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aboration et envoie des rapports au BRCR/BN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 de la Société Civ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sation de missions de suivi de terrain et rédaction de rapports sur l’application des me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eformes Régionales et Nationale (PFR/PF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nner des avis sur la cohérence et qualité des données acceptables pour les diverses parties pren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e Technique de Sauvega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sition des mesures pour améliorer le SIS et la façon de présentation des rappor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NC-RE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e, consolidation, analyse, gestion de l’information, diffusion, amélioration du 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2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té Interministériel pour l’Environnement (C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idation du rapport de suivi des sauvegardes et co-bénéfices. Communication nationale du rapport au CCNU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709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eur Indépend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ion de la performance du SIS: contrôle et assurance de la qualité de l’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95160" y="1828440"/>
            <a:ext cx="10071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Veuillez donner des précisions sur les </a:t>
            </a:r>
            <a:r>
              <a:rPr b="0" lang="fr-FR" sz="1700" spc="-1" strike="noStrike" u="sng">
                <a:solidFill>
                  <a:srgbClr val="000000"/>
                </a:solidFill>
                <a:uFillTx/>
                <a:latin typeface="Calibri"/>
              </a:rPr>
              <a:t>opportunités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 que vous avez rencontré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Quels bailleurs sont impliqués dans la REDD+ dans votre pays? Comment est-ce que cela a influencé l'objectif / la conception de votre SI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Les bailleurs de fonds sont: ONU REDD et la Banque Mondiale (fonds du FCPF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La conception du SIS basée sur la </a:t>
            </a:r>
            <a:r>
              <a:rPr b="0" lang="fr-FR" sz="1500" spc="-1" strike="noStrike">
                <a:solidFill>
                  <a:srgbClr val="3366ff"/>
                </a:solidFill>
                <a:latin typeface="Calibri"/>
              </a:rPr>
              <a:t>Décision 12 / CP.17 de la CCNUCC, FCPF sur la nécessité de fournir un résumé de la mise en œuvre des mesures de sauvegar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3366ff"/>
                </a:solidFill>
                <a:latin typeface="Calibri"/>
              </a:rPr>
              <a:t>Les projets pilotes (CAZ, Makira) servaient de référence pour le développement des indicateurs et questionnaires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otre SIS a-t-il des objectifs de rapporting à court et à long terme (initialement, REDD+, plus tard, s'étendre au secteur forestier ou même plus large)? Avez-vous des plans pour améliorer votre SIS au fil du temp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Rapport dans le le cadre de la communication national: tous les quatre a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Rapport des projets : tous les a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Dans le cas actuel le rapport SIS est réservé pour le programme national REDD+ et les proje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L’amélioration est planifiée et prévue se faire en fonction de l’avancement du programme et des besoi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i l'on s'attend à ce que le SIS rassemble et fournisse des informations aux fins des préconisations du FCPF/ Banque Mondiale, comment l'EESS et l'ESMF seront-ils utilisés pour informer le SI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ff"/>
                </a:solidFill>
                <a:latin typeface="Calibri"/>
              </a:rPr>
              <a:t>SIS reprend les indicateurs de l’EESS et l’ESMF ainsi que la CP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3880" y="3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oints Forts &amp; Opportunités : 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ce qui a marché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95160" y="1828440"/>
            <a:ext cx="997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euillez donner des précisions sur les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Calibri"/>
              </a:rPr>
              <a:t>défi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que vous avez rencontré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Y a-t-il eu des défis liés au timing du trava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EESS et élaboration de la stratégie réalisées en même temps que le processus de mise en place du SIS: attente des inputs. </a:t>
            </a:r>
            <a:r>
              <a:rPr b="0" lang="fr-FR" sz="19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 Probable besoin d’ajustage à la disponibilité de la version finale de la stratégie (dispositif institutionnel, indicateurs, etc.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Qu'en est-il des enjeux logistiques / des coûts ou de efforts pour assurer la participation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Enclavement rend cher la logistique de l’étud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l’analphabétisme rend difficile la particip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Y a-t-il eu des difficultés à obtenir des contributions techniques d'autres ministères gouvernementaux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ff"/>
                </a:solidFill>
                <a:latin typeface="Calibri"/>
              </a:rPr>
              <a:t>Indisponibilités des inform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3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Faiblesses &amp; Challenges: 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ce qui n’a pas marché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95160" y="2428560"/>
            <a:ext cx="997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300" spc="-1" strike="noStrike">
                <a:solidFill>
                  <a:srgbClr val="000000"/>
                </a:solidFill>
                <a:latin typeface="Calibri"/>
              </a:rPr>
              <a:t>Veuillez donner des précisions sur les </a:t>
            </a:r>
            <a:r>
              <a:rPr b="0" lang="fr-CI" sz="1300" spc="-1" strike="noStrike" u="sng">
                <a:solidFill>
                  <a:srgbClr val="000000"/>
                </a:solidFill>
                <a:uFillTx/>
                <a:latin typeface="Calibri"/>
              </a:rPr>
              <a:t>leçons apprises</a:t>
            </a:r>
            <a:r>
              <a:rPr b="0" lang="fr-CI" sz="1300" spc="-1" strike="noStrike">
                <a:solidFill>
                  <a:srgbClr val="000000"/>
                </a:solidFill>
                <a:latin typeface="Calibri"/>
              </a:rPr>
              <a:t>, y compris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000000"/>
                </a:solidFill>
                <a:latin typeface="Calibri"/>
              </a:rPr>
              <a:t>Comment le processus de rapporting du SIS est-il lié à la mise en œuvre de la sauvegard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Documents de référence (EESS, PGES), document de sauvegarde élaboré par les promoteurs des projets; suivi, collecte et validation de données collectées et rapportés. Le SIS à travers l’ évaluation des indicateurs fixés et des données rapportés va  servir comme l’outil de suivi pour l ’effectivité de la mise en œuvre des mesures de sauvegard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000000"/>
                </a:solidFill>
                <a:latin typeface="Calibri"/>
              </a:rPr>
              <a:t>Quelles dispositions institutionnelles avez-vous développé pour mener les différentes fonctions (mandats institutionnels, accords de partage d'informations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Plateforme Nationale (structure de consultation et de validatio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Pour la conception création d’un « groupe d’experts en sauvegarde 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Charte de responsabilité, contrat établi entre les promoteurs, BNC REDD et les bénficiaires ou PAP (CLI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000000"/>
                </a:solidFill>
                <a:latin typeface="Calibri"/>
              </a:rPr>
              <a:t>Avez-vous élaboré un schéma institutionnel / un document de conception SIS qui décrit clairement le fonctionnement du SIS (le flux d'informations)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4472c4"/>
                </a:solidFill>
                <a:latin typeface="Calibri"/>
              </a:rPr>
              <a:t>Pour le schéma institutionnel; voir le slide 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Un document de conception de SIS </a:t>
            </a:r>
            <a:r>
              <a:rPr b="0" lang="fr-CI" sz="1100" spc="-1" strike="noStrike">
                <a:solidFill>
                  <a:srgbClr val="4472c4"/>
                </a:solidFill>
                <a:latin typeface="Calibri"/>
              </a:rPr>
              <a:t>qui décrit clairement le fonctionnement du SIS </a:t>
            </a:r>
            <a:r>
              <a:rPr b="0" lang="fr-FR" sz="1100" spc="-1" strike="noStrike">
                <a:solidFill>
                  <a:srgbClr val="3366ff"/>
                </a:solidFill>
                <a:latin typeface="Calibri"/>
              </a:rPr>
              <a:t>a été élaboré dans lequel on voit la gestion des informations avec les bases de données y afférents sont expliqués (rapport ci-joint (page 32 à 39) 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000000"/>
                </a:solidFill>
                <a:latin typeface="Calibri"/>
              </a:rPr>
              <a:t>Quelle formation avez-vous prévue pour veiller à ce que les institutions responsables soient capables de s'acquitter de leurs responsabilité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Formation et maintenance du logiciel et des équip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100" spc="-1" strike="noStrike">
                <a:solidFill>
                  <a:srgbClr val="3366ff"/>
                </a:solidFill>
                <a:latin typeface="Calibri"/>
              </a:rPr>
              <a:t>Formation en cascade pour les responsables opérationnels au niveau régional et local pour la collecte, la vérification et la saisie des inform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27320" y="12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fr-CI" sz="5400" spc="-1" strike="noStrike">
                <a:solidFill>
                  <a:srgbClr val="000000"/>
                </a:solidFill>
                <a:latin typeface="Calibri Light"/>
              </a:rPr>
              <a:t>Leçons apprises : </a:t>
            </a:r>
            <a:br>
              <a:rPr sz="5400"/>
            </a:br>
            <a:r>
              <a:rPr b="0" lang="fr-CI" sz="5400" spc="-1" strike="noStrike">
                <a:solidFill>
                  <a:srgbClr val="000000"/>
                </a:solidFill>
                <a:latin typeface="Calibri Light"/>
              </a:rPr>
              <a:t>ce que nous pouvons partager avec les autre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oneTexte 3"/>
          <p:cNvSpPr/>
          <p:nvPr/>
        </p:nvSpPr>
        <p:spPr>
          <a:xfrm>
            <a:off x="2540160" y="79200"/>
            <a:ext cx="9524880" cy="337320"/>
          </a:xfrm>
          <a:prstGeom prst="rect">
            <a:avLst/>
          </a:prstGeom>
          <a:noFill/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CHEMA ORGANISATIONNEL/INSTITUTIONNEL SIS REDD+ 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4"/>
          <p:cNvSpPr/>
          <p:nvPr/>
        </p:nvSpPr>
        <p:spPr>
          <a:xfrm>
            <a:off x="127080" y="109440"/>
            <a:ext cx="220176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Fournisseurs de données (National, Régional,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5"/>
          <p:cNvSpPr/>
          <p:nvPr/>
        </p:nvSpPr>
        <p:spPr>
          <a:xfrm>
            <a:off x="2540160" y="523800"/>
            <a:ext cx="236988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BNC REDD+/BR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092560" y="517680"/>
            <a:ext cx="1913040" cy="2764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Plateforme Nationale/P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7"/>
          <p:cNvSpPr/>
          <p:nvPr/>
        </p:nvSpPr>
        <p:spPr>
          <a:xfrm>
            <a:off x="7155000" y="523800"/>
            <a:ext cx="167148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SG M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8"/>
          <p:cNvSpPr/>
          <p:nvPr/>
        </p:nvSpPr>
        <p:spPr>
          <a:xfrm>
            <a:off x="8945640" y="533520"/>
            <a:ext cx="138420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CO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9"/>
          <p:cNvSpPr/>
          <p:nvPr/>
        </p:nvSpPr>
        <p:spPr>
          <a:xfrm>
            <a:off x="10553760" y="517680"/>
            <a:ext cx="151128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G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0"/>
          <p:cNvSpPr/>
          <p:nvPr/>
        </p:nvSpPr>
        <p:spPr>
          <a:xfrm>
            <a:off x="127080" y="936720"/>
            <a:ext cx="220176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2595600" y="936720"/>
            <a:ext cx="249696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2"/>
          <p:cNvSpPr/>
          <p:nvPr/>
        </p:nvSpPr>
        <p:spPr>
          <a:xfrm>
            <a:off x="5092560" y="936720"/>
            <a:ext cx="191304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3"/>
          <p:cNvSpPr/>
          <p:nvPr/>
        </p:nvSpPr>
        <p:spPr>
          <a:xfrm>
            <a:off x="7155000" y="936720"/>
            <a:ext cx="167148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4"/>
          <p:cNvSpPr/>
          <p:nvPr/>
        </p:nvSpPr>
        <p:spPr>
          <a:xfrm>
            <a:off x="8902800" y="936720"/>
            <a:ext cx="142704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15"/>
          <p:cNvSpPr/>
          <p:nvPr/>
        </p:nvSpPr>
        <p:spPr>
          <a:xfrm>
            <a:off x="10497960" y="961920"/>
            <a:ext cx="1673280" cy="52088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er 18"/>
          <p:cNvGrpSpPr/>
          <p:nvPr/>
        </p:nvGrpSpPr>
        <p:grpSpPr>
          <a:xfrm>
            <a:off x="127080" y="1127160"/>
            <a:ext cx="2201760" cy="873000"/>
            <a:chOff x="127080" y="1127160"/>
            <a:chExt cx="2201760" cy="873000"/>
          </a:xfrm>
        </p:grpSpPr>
        <p:sp>
          <p:nvSpPr>
            <p:cNvPr id="123" name="ZoneTexte 16"/>
            <p:cNvSpPr/>
            <p:nvPr/>
          </p:nvSpPr>
          <p:spPr>
            <a:xfrm>
              <a:off x="127080" y="1127160"/>
              <a:ext cx="220176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endre comp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ZoneTexte 17"/>
            <p:cNvSpPr/>
            <p:nvPr/>
          </p:nvSpPr>
          <p:spPr>
            <a:xfrm>
              <a:off x="127080" y="1449360"/>
              <a:ext cx="220176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apport périodi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éponse aux ques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Mis à jour des donné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er 19"/>
          <p:cNvGrpSpPr/>
          <p:nvPr/>
        </p:nvGrpSpPr>
        <p:grpSpPr>
          <a:xfrm>
            <a:off x="2709720" y="1197000"/>
            <a:ext cx="2273400" cy="984240"/>
            <a:chOff x="2709720" y="1197000"/>
            <a:chExt cx="2273400" cy="984240"/>
          </a:xfrm>
        </p:grpSpPr>
        <p:sp>
          <p:nvSpPr>
            <p:cNvPr id="126" name="ZoneTexte 20"/>
            <p:cNvSpPr/>
            <p:nvPr/>
          </p:nvSpPr>
          <p:spPr>
            <a:xfrm>
              <a:off x="2709720" y="119700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llecte et centralise les donné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ZoneTexte 21"/>
            <p:cNvSpPr/>
            <p:nvPr/>
          </p:nvSpPr>
          <p:spPr>
            <a:xfrm>
              <a:off x="2709720" y="1630440"/>
              <a:ext cx="225288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ordonner la collec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ecevoir les donné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Relancer/reta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er 22"/>
          <p:cNvGrpSpPr/>
          <p:nvPr/>
        </p:nvGrpSpPr>
        <p:grpSpPr>
          <a:xfrm>
            <a:off x="2695680" y="2266920"/>
            <a:ext cx="2273040" cy="841320"/>
            <a:chOff x="2695680" y="2266920"/>
            <a:chExt cx="2273040" cy="841320"/>
          </a:xfrm>
        </p:grpSpPr>
        <p:sp>
          <p:nvSpPr>
            <p:cNvPr id="129" name="ZoneTexte 23"/>
            <p:cNvSpPr/>
            <p:nvPr/>
          </p:nvSpPr>
          <p:spPr>
            <a:xfrm>
              <a:off x="2695680" y="2266920"/>
              <a:ext cx="227304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rai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ZoneTexte 24"/>
            <p:cNvSpPr/>
            <p:nvPr/>
          </p:nvSpPr>
          <p:spPr>
            <a:xfrm>
              <a:off x="2695680" y="2557440"/>
              <a:ext cx="227304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nsoli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nalyser et évalu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Stock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er 25"/>
          <p:cNvGrpSpPr/>
          <p:nvPr/>
        </p:nvGrpSpPr>
        <p:grpSpPr>
          <a:xfrm>
            <a:off x="2689200" y="3371760"/>
            <a:ext cx="2273400" cy="601560"/>
            <a:chOff x="2689200" y="3371760"/>
            <a:chExt cx="2273400" cy="601560"/>
          </a:xfrm>
        </p:grpSpPr>
        <p:sp>
          <p:nvSpPr>
            <p:cNvPr id="132" name="ZoneTexte 26"/>
            <p:cNvSpPr/>
            <p:nvPr/>
          </p:nvSpPr>
          <p:spPr>
            <a:xfrm>
              <a:off x="2689200" y="337176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Valider inter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ZoneTexte 27"/>
            <p:cNvSpPr/>
            <p:nvPr/>
          </p:nvSpPr>
          <p:spPr>
            <a:xfrm>
              <a:off x="2689200" y="3574800"/>
              <a:ext cx="22734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ntrô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emander mod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er 28"/>
          <p:cNvGrpSpPr/>
          <p:nvPr/>
        </p:nvGrpSpPr>
        <p:grpSpPr>
          <a:xfrm>
            <a:off x="2682720" y="4070520"/>
            <a:ext cx="2273400" cy="677880"/>
            <a:chOff x="2682720" y="4070520"/>
            <a:chExt cx="2273400" cy="677880"/>
          </a:xfrm>
        </p:grpSpPr>
        <p:sp>
          <p:nvSpPr>
            <p:cNvPr id="135" name="ZoneTexte 29"/>
            <p:cNvSpPr/>
            <p:nvPr/>
          </p:nvSpPr>
          <p:spPr>
            <a:xfrm>
              <a:off x="2682720" y="407052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iff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ZoneTexte 30"/>
            <p:cNvSpPr/>
            <p:nvPr/>
          </p:nvSpPr>
          <p:spPr>
            <a:xfrm>
              <a:off x="2682720" y="4349880"/>
              <a:ext cx="22734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Mettre en for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Transmettre (CCNUC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er 31"/>
          <p:cNvGrpSpPr/>
          <p:nvPr/>
        </p:nvGrpSpPr>
        <p:grpSpPr>
          <a:xfrm>
            <a:off x="2682720" y="4900680"/>
            <a:ext cx="2273400" cy="630360"/>
            <a:chOff x="2682720" y="4900680"/>
            <a:chExt cx="2273400" cy="630360"/>
          </a:xfrm>
        </p:grpSpPr>
        <p:sp>
          <p:nvSpPr>
            <p:cNvPr id="138" name="ZoneTexte 32"/>
            <p:cNvSpPr/>
            <p:nvPr/>
          </p:nvSpPr>
          <p:spPr>
            <a:xfrm>
              <a:off x="2682720" y="490068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Evaluation indépendante du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ZoneTexte 33"/>
            <p:cNvSpPr/>
            <p:nvPr/>
          </p:nvSpPr>
          <p:spPr>
            <a:xfrm>
              <a:off x="2682720" y="5284800"/>
              <a:ext cx="2273400" cy="24624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Evaluer la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er 34"/>
          <p:cNvGrpSpPr/>
          <p:nvPr/>
        </p:nvGrpSpPr>
        <p:grpSpPr>
          <a:xfrm>
            <a:off x="2708280" y="5634000"/>
            <a:ext cx="2290680" cy="834840"/>
            <a:chOff x="2708280" y="5634000"/>
            <a:chExt cx="2290680" cy="834840"/>
          </a:xfrm>
        </p:grpSpPr>
        <p:sp>
          <p:nvSpPr>
            <p:cNvPr id="141" name="ZoneTexte 35"/>
            <p:cNvSpPr/>
            <p:nvPr/>
          </p:nvSpPr>
          <p:spPr>
            <a:xfrm>
              <a:off x="2708280" y="563400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méliorer l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ZoneTexte 36"/>
            <p:cNvSpPr/>
            <p:nvPr/>
          </p:nvSpPr>
          <p:spPr>
            <a:xfrm>
              <a:off x="2708280" y="5918040"/>
              <a:ext cx="229068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Valider les résolutions techn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ppuis conseils et orientation stratégi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3" name="Connecteur en angle 38"/>
          <p:cNvCxnSpPr>
            <a:endCxn id="126" idx="0"/>
          </p:cNvCxnSpPr>
          <p:nvPr/>
        </p:nvCxnSpPr>
        <p:spPr>
          <a:xfrm>
            <a:off x="2328840" y="1039320"/>
            <a:ext cx="1518480" cy="15804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4" name="Connecteur en angle 45"/>
          <p:cNvCxnSpPr/>
          <p:nvPr/>
        </p:nvCxnSpPr>
        <p:spPr>
          <a:xfrm rot="10800000">
            <a:off x="1197720" y="1971000"/>
            <a:ext cx="1447200" cy="18000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5" name="Connecteur en angle 52"/>
          <p:cNvCxnSpPr/>
          <p:nvPr/>
        </p:nvCxnSpPr>
        <p:spPr>
          <a:xfrm rot="5400000">
            <a:off x="4339800" y="3128760"/>
            <a:ext cx="238680" cy="248400"/>
          </a:xfrm>
          <a:prstGeom prst="bentConnector3">
            <a:avLst>
              <a:gd name="adj1" fmla="val 5000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6" name="Connecteur en angle 54"/>
          <p:cNvCxnSpPr>
            <a:stCxn id="127" idx="2"/>
            <a:endCxn id="129" idx="0"/>
          </p:cNvCxnSpPr>
          <p:nvPr/>
        </p:nvCxnSpPr>
        <p:spPr>
          <a:xfrm rot="5400000">
            <a:off x="3803760" y="2234160"/>
            <a:ext cx="60840" cy="5400"/>
          </a:xfrm>
          <a:prstGeom prst="bentConnector3">
            <a:avLst>
              <a:gd name="adj1" fmla="val 5000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47" name="Grouper 55"/>
          <p:cNvGrpSpPr/>
          <p:nvPr/>
        </p:nvGrpSpPr>
        <p:grpSpPr>
          <a:xfrm>
            <a:off x="5092560" y="1343160"/>
            <a:ext cx="1913040" cy="1085400"/>
            <a:chOff x="5092560" y="1343160"/>
            <a:chExt cx="1913040" cy="1085400"/>
          </a:xfrm>
        </p:grpSpPr>
        <p:sp>
          <p:nvSpPr>
            <p:cNvPr id="148" name="ZoneTexte 56"/>
            <p:cNvSpPr/>
            <p:nvPr/>
          </p:nvSpPr>
          <p:spPr>
            <a:xfrm>
              <a:off x="5092560" y="1343160"/>
              <a:ext cx="1913040" cy="3985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éfinir les orientations stratég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ZoneTexte 57"/>
            <p:cNvSpPr/>
            <p:nvPr/>
          </p:nvSpPr>
          <p:spPr>
            <a:xfrm>
              <a:off x="5092560" y="1725480"/>
              <a:ext cx="1913040" cy="70308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éfinition des orientations stratég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onner avis sur la cohérence des donné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0" name="Connecteur en angle 63"/>
          <p:cNvCxnSpPr/>
          <p:nvPr/>
        </p:nvCxnSpPr>
        <p:spPr>
          <a:xfrm flipH="1">
            <a:off x="4998600" y="2784960"/>
            <a:ext cx="1321200" cy="848520"/>
          </a:xfrm>
          <a:prstGeom prst="bentConnector3">
            <a:avLst>
              <a:gd name="adj1" fmla="val -297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51" name="Grouper 67"/>
          <p:cNvGrpSpPr/>
          <p:nvPr/>
        </p:nvGrpSpPr>
        <p:grpSpPr>
          <a:xfrm>
            <a:off x="7155000" y="3898800"/>
            <a:ext cx="1671480" cy="687600"/>
            <a:chOff x="7155000" y="3898800"/>
            <a:chExt cx="1671480" cy="687600"/>
          </a:xfrm>
        </p:grpSpPr>
        <p:sp>
          <p:nvSpPr>
            <p:cNvPr id="152" name="ZoneTexte 68"/>
            <p:cNvSpPr/>
            <p:nvPr/>
          </p:nvSpPr>
          <p:spPr>
            <a:xfrm>
              <a:off x="7155000" y="3898800"/>
              <a:ext cx="167148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pprou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ZoneTexte 69"/>
            <p:cNvSpPr/>
            <p:nvPr/>
          </p:nvSpPr>
          <p:spPr>
            <a:xfrm>
              <a:off x="7155000" y="4187880"/>
              <a:ext cx="167148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Contrô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Demander modification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" name="Connecteur en angle 72"/>
          <p:cNvCxnSpPr>
            <a:endCxn id="136" idx="3"/>
          </p:cNvCxnSpPr>
          <p:nvPr/>
        </p:nvCxnSpPr>
        <p:spPr>
          <a:xfrm flipV="1" rot="10800000">
            <a:off x="4955400" y="4348800"/>
            <a:ext cx="2199600" cy="216360"/>
          </a:xfrm>
          <a:prstGeom prst="bentConnector3">
            <a:avLst>
              <a:gd name="adj1" fmla="val 82517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55" name="Connecteur en angle 75"/>
          <p:cNvCxnSpPr>
            <a:stCxn id="133" idx="3"/>
          </p:cNvCxnSpPr>
          <p:nvPr/>
        </p:nvCxnSpPr>
        <p:spPr>
          <a:xfrm>
            <a:off x="4962600" y="3790440"/>
            <a:ext cx="2193120" cy="280440"/>
          </a:xfrm>
          <a:prstGeom prst="bentConnector3">
            <a:avLst>
              <a:gd name="adj1" fmla="val 49991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56" name="Grouper 77"/>
          <p:cNvGrpSpPr/>
          <p:nvPr/>
        </p:nvGrpSpPr>
        <p:grpSpPr>
          <a:xfrm>
            <a:off x="8945640" y="4070520"/>
            <a:ext cx="1384200" cy="906120"/>
            <a:chOff x="8945640" y="4070520"/>
            <a:chExt cx="1384200" cy="906120"/>
          </a:xfrm>
        </p:grpSpPr>
        <p:sp>
          <p:nvSpPr>
            <p:cNvPr id="157" name="ZoneTexte 78"/>
            <p:cNvSpPr/>
            <p:nvPr/>
          </p:nvSpPr>
          <p:spPr>
            <a:xfrm>
              <a:off x="8945640" y="4070520"/>
              <a:ext cx="13842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Evaluation du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ZoneTexte 79"/>
            <p:cNvSpPr/>
            <p:nvPr/>
          </p:nvSpPr>
          <p:spPr>
            <a:xfrm>
              <a:off x="8945640" y="4425840"/>
              <a:ext cx="138420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Mandater une évaluation tous les 4 a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Connecteur en angle 81"/>
          <p:cNvCxnSpPr>
            <a:stCxn id="158" idx="2"/>
          </p:cNvCxnSpPr>
          <p:nvPr/>
        </p:nvCxnSpPr>
        <p:spPr>
          <a:xfrm rot="5400000">
            <a:off x="7136280" y="2829600"/>
            <a:ext cx="327960" cy="467532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60" name="Grouper 85"/>
          <p:cNvGrpSpPr/>
          <p:nvPr/>
        </p:nvGrpSpPr>
        <p:grpSpPr>
          <a:xfrm>
            <a:off x="10558440" y="5459400"/>
            <a:ext cx="1506600" cy="671400"/>
            <a:chOff x="10558440" y="5459400"/>
            <a:chExt cx="1506600" cy="671400"/>
          </a:xfrm>
        </p:grpSpPr>
        <p:sp>
          <p:nvSpPr>
            <p:cNvPr id="161" name="ZoneTexte 86"/>
            <p:cNvSpPr/>
            <p:nvPr/>
          </p:nvSpPr>
          <p:spPr>
            <a:xfrm>
              <a:off x="10558440" y="5459400"/>
              <a:ext cx="15066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méliorer l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ZoneTexte 87"/>
            <p:cNvSpPr/>
            <p:nvPr/>
          </p:nvSpPr>
          <p:spPr>
            <a:xfrm>
              <a:off x="10558440" y="5732280"/>
              <a:ext cx="15066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Appuis conseils et orientation stratégi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Connecteur droit avec flèche 89"/>
          <p:cNvCxnSpPr>
            <a:endCxn id="141" idx="3"/>
          </p:cNvCxnSpPr>
          <p:nvPr/>
        </p:nvCxnSpPr>
        <p:spPr>
          <a:xfrm flipH="1">
            <a:off x="4980960" y="5763960"/>
            <a:ext cx="5517000" cy="1080"/>
          </a:xfrm>
          <a:prstGeom prst="straightConnector1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64" name="Connecteur droit avec flèche 91"/>
          <p:cNvCxnSpPr/>
          <p:nvPr/>
        </p:nvCxnSpPr>
        <p:spPr>
          <a:xfrm flipV="1">
            <a:off x="4998600" y="6065280"/>
            <a:ext cx="5499720" cy="1080"/>
          </a:xfrm>
          <a:prstGeom prst="straightConnector1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06:06:00Z</dcterms:created>
  <dc:creator>sebastien</dc:creator>
  <dc:description/>
  <dc:language>en-US</dc:language>
  <cp:lastModifiedBy>sebastien</cp:lastModifiedBy>
  <dcterms:modified xsi:type="dcterms:W3CDTF">2018-06-05T15:18:27Z</dcterms:modified>
  <cp:revision>50</cp:revision>
  <dc:subject/>
  <dc:title>PowerPoint Presentation</dc:title>
</cp:coreProperties>
</file>