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wmf" ContentType="image/x-wmf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9A56C-EEAC-4A2E-A936-104759A47D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C4133-CA38-4BF6-8E00-ECFF04C80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18BD5-1DDF-4225-9F98-28C929C7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96252-26F2-46CD-9DF8-577F2DBE71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B794AD-F87B-44FB-BDB8-7AD26EC51D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19F757-9A50-4A10-AD28-C0FF938AB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B1B3FC-A23A-4780-9A96-8618C530F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A541B5-334A-4005-9BA3-4E4A324F2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4F64A7-DA4C-4472-B01D-FF8880FA6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5F1A31-512B-4713-96F6-47F6F5179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5B1E05-EE8C-44E7-887A-75AC65376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D8793-559A-469D-B61A-79EF9BA3D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CA97C8-73BC-42A0-A583-9FE73E525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1B4B71-8E8A-466C-B6AC-A3262D681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3A0EB6-9136-47B8-B579-286B29E84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549926-DF0F-46B0-AF16-3EF448BF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00FBD1-CEC2-4083-A77A-746E640ABB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8E06A-703E-492C-AE16-E0BD1A2AE5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0B248-9CEB-4AEF-BF70-A8AD0ABEA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8E7CE-CAD0-4D7C-8293-D93BED90B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701F1-AB64-45F8-B1B7-41D26BCD7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BDB9B-AC9B-4637-AD57-4303AE3FF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7C7B9-1042-4EEC-8C50-295961063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92D1A-D1E7-4380-8062-94CE26815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0AB33-AA7C-4667-BEC3-1CE2A7DF2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B095B-82EA-4B09-83D6-DD26AC225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8A8AF-5F05-45FF-9D9C-D15F467DB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10CED-4B63-43CF-B5E2-F86EC328E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07898-1DD3-4CAF-9DF8-2F9D9743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D25E3-04D2-4E41-BC7F-9F4DA80781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EC3764-EF75-45DF-809D-6620BED288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696132-382B-4616-A60B-5DE61FA88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42E8CF-3B0A-4174-9FB5-9C36A5623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6EE02-26EB-4A13-ADB9-214C79E7C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8CDAFA-8714-49C1-892F-3B76FCD2E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D72BBB-172D-47C9-A71C-5D6BD5741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03036D-9B8D-4AE2-9082-AB0030BBC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E86807-5E86-4F37-881E-6960BE2A8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864E9B-66D0-464B-9525-835EA7C6B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BFD690-175F-4A70-8000-099915B1F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D44010-76C8-410C-84B1-C95A6A726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6A5128-F145-4E3A-8675-6BB6120D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9370E9-6B45-4963-996B-D8F3F98A4D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827B4-14BD-4933-9386-16F51B43F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6FC02-C969-405C-A695-E0B4AE5FE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30814-61D3-4760-BCC3-B50E09C7B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345BE-B68E-4C36-8749-57CE27CAB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9E729-1557-45B0-A41B-9063C16D7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6274"/>
                </a:srgbClr>
              </a:gs>
              <a:gs pos="100000">
                <a:srgbClr val="00ebf8">
                  <a:alpha val="5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6274"/>
                </a:srgbClr>
              </a:gs>
              <a:gs pos="100000">
                <a:srgbClr val="009be5">
                  <a:alpha val="3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A58128F-A55C-4FAC-8DA3-008A0424A48B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8"/>
          <p:cNvGrpSpPr/>
          <p:nvPr/>
        </p:nvGrpSpPr>
        <p:grpSpPr>
          <a:xfrm>
            <a:off x="-19080" y="203040"/>
            <a:ext cx="9178920" cy="646200"/>
            <a:chOff x="-19080" y="203040"/>
            <a:chExt cx="9178920" cy="646200"/>
          </a:xfrm>
        </p:grpSpPr>
        <p:grpSp>
          <p:nvGrpSpPr>
            <p:cNvPr id="8" name="Group 9"/>
            <p:cNvGrpSpPr/>
            <p:nvPr/>
          </p:nvGrpSpPr>
          <p:grpSpPr>
            <a:xfrm>
              <a:off x="-19080" y="203040"/>
              <a:ext cx="9161280" cy="646200"/>
              <a:chOff x="-19080" y="203040"/>
              <a:chExt cx="9161280" cy="646200"/>
            </a:xfrm>
          </p:grpSpPr>
          <p:pic>
            <p:nvPicPr>
              <p:cNvPr id="9" name="Pictur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896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1"/>
              <p:cNvSpPr/>
              <p:nvPr/>
            </p:nvSpPr>
            <p:spPr>
              <a:xfrm rot="21420000">
                <a:off x="-18720" y="479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Group 12"/>
            <p:cNvGrpSpPr/>
            <p:nvPr/>
          </p:nvGrpSpPr>
          <p:grpSpPr>
            <a:xfrm>
              <a:off x="-19080" y="247680"/>
              <a:ext cx="9178920" cy="560520"/>
              <a:chOff x="-19080" y="247680"/>
              <a:chExt cx="9178920" cy="560520"/>
            </a:xfrm>
          </p:grpSpPr>
          <p:pic>
            <p:nvPicPr>
              <p:cNvPr id="12" name="Pictur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3080" cy="56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Text Box 14"/>
              <p:cNvSpPr/>
              <p:nvPr/>
            </p:nvSpPr>
            <p:spPr>
              <a:xfrm rot="214200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6274"/>
                </a:srgbClr>
              </a:gs>
              <a:gs pos="100000">
                <a:srgbClr val="00ebf8">
                  <a:alpha val="5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2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6274"/>
                </a:srgbClr>
              </a:gs>
              <a:gs pos="100000">
                <a:srgbClr val="009be5">
                  <a:alpha val="3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-19080" y="203040"/>
            <a:ext cx="9178920" cy="646200"/>
            <a:chOff x="-19080" y="203040"/>
            <a:chExt cx="9178920" cy="646200"/>
          </a:xfrm>
        </p:grpSpPr>
        <p:grpSp>
          <p:nvGrpSpPr>
            <p:cNvPr id="53" name="Group 4"/>
            <p:cNvGrpSpPr/>
            <p:nvPr/>
          </p:nvGrpSpPr>
          <p:grpSpPr>
            <a:xfrm>
              <a:off x="-19080" y="203040"/>
              <a:ext cx="9161280" cy="646200"/>
              <a:chOff x="-19080" y="203040"/>
              <a:chExt cx="9161280" cy="646200"/>
            </a:xfrm>
          </p:grpSpPr>
          <p:pic>
            <p:nvPicPr>
              <p:cNvPr id="54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896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Text Box 6"/>
              <p:cNvSpPr/>
              <p:nvPr/>
            </p:nvSpPr>
            <p:spPr>
              <a:xfrm rot="21420000">
                <a:off x="-18720" y="479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7"/>
            <p:cNvGrpSpPr/>
            <p:nvPr/>
          </p:nvGrpSpPr>
          <p:grpSpPr>
            <a:xfrm>
              <a:off x="-19080" y="247680"/>
              <a:ext cx="9178920" cy="560520"/>
              <a:chOff x="-19080" y="247680"/>
              <a:chExt cx="9178920" cy="560520"/>
            </a:xfrm>
          </p:grpSpPr>
          <p:pic>
            <p:nvPicPr>
              <p:cNvPr id="57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3080" cy="56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Text Box 9"/>
              <p:cNvSpPr/>
              <p:nvPr/>
            </p:nvSpPr>
            <p:spPr>
              <a:xfrm rot="214200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EFEFBD8-AFB0-4422-BD6B-5E26C198829B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6274"/>
                </a:srgbClr>
              </a:gs>
              <a:gs pos="100000">
                <a:srgbClr val="00ebf8">
                  <a:alpha val="5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6274"/>
                </a:srgbClr>
              </a:gs>
              <a:gs pos="100000">
                <a:srgbClr val="009be5">
                  <a:alpha val="3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-19080" y="203040"/>
            <a:ext cx="9178920" cy="646200"/>
            <a:chOff x="-19080" y="203040"/>
            <a:chExt cx="9178920" cy="646200"/>
          </a:xfrm>
        </p:grpSpPr>
        <p:grpSp>
          <p:nvGrpSpPr>
            <p:cNvPr id="103" name="Group 4"/>
            <p:cNvGrpSpPr/>
            <p:nvPr/>
          </p:nvGrpSpPr>
          <p:grpSpPr>
            <a:xfrm>
              <a:off x="-19080" y="203040"/>
              <a:ext cx="9161280" cy="646200"/>
              <a:chOff x="-19080" y="203040"/>
              <a:chExt cx="9161280" cy="646200"/>
            </a:xfrm>
          </p:grpSpPr>
          <p:pic>
            <p:nvPicPr>
              <p:cNvPr id="104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896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Text Box 6"/>
              <p:cNvSpPr/>
              <p:nvPr/>
            </p:nvSpPr>
            <p:spPr>
              <a:xfrm rot="21420000">
                <a:off x="-18720" y="479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" name="Group 7"/>
            <p:cNvGrpSpPr/>
            <p:nvPr/>
          </p:nvGrpSpPr>
          <p:grpSpPr>
            <a:xfrm>
              <a:off x="-19080" y="247680"/>
              <a:ext cx="9178920" cy="560520"/>
              <a:chOff x="-19080" y="247680"/>
              <a:chExt cx="9178920" cy="560520"/>
            </a:xfrm>
          </p:grpSpPr>
          <p:pic>
            <p:nvPicPr>
              <p:cNvPr id="107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3080" cy="56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Text Box 9"/>
              <p:cNvSpPr/>
              <p:nvPr/>
            </p:nvSpPr>
            <p:spPr>
              <a:xfrm rot="214200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6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B38AD07-4FC7-4FF9-A73F-4DF257674B03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1"/>
          <p:cNvSpPr/>
          <p:nvPr/>
        </p:nvSpPr>
        <p:spPr>
          <a:xfrm flipV="1" rot="420000">
            <a:off x="316404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2"/>
          <p:cNvSpPr/>
          <p:nvPr/>
        </p:nvSpPr>
        <p:spPr>
          <a:xfrm flipV="1" rot="420000">
            <a:off x="8002080" y="5358960"/>
            <a:ext cx="155880" cy="155520"/>
          </a:xfrm>
          <a:prstGeom prst="rtTriangle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3"/>
          <p:cNvSpPr/>
          <p:nvPr/>
        </p:nvSpPr>
        <p:spPr>
          <a:xfrm flipV="1">
            <a:off x="-9000" y="581400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6274"/>
                </a:srgbClr>
              </a:gs>
              <a:gs pos="100000">
                <a:srgbClr val="00ebf8">
                  <a:alpha val="5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4"/>
          <p:cNvSpPr/>
          <p:nvPr/>
        </p:nvSpPr>
        <p:spPr>
          <a:xfrm flipV="1">
            <a:off x="4381560" y="621756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6274"/>
                </a:srgbClr>
              </a:gs>
              <a:gs pos="100000">
                <a:srgbClr val="009be5">
                  <a:alpha val="3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7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sldNum" idx="8"/>
          </p:nvPr>
        </p:nvSpPr>
        <p:spPr>
          <a:xfrm>
            <a:off x="8076960" y="6356160"/>
            <a:ext cx="6080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E2D30B4-48F8-4A6A-B24E-D35BE2337F6A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"/>
          <p:cNvSpPr/>
          <p:nvPr/>
        </p:nvSpPr>
        <p:spPr>
          <a:xfrm>
            <a:off x="457200" y="9907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900" spc="-1" strike="noStrike">
                <a:solidFill>
                  <a:srgbClr val="04617b"/>
                </a:solidFill>
                <a:latin typeface="Calibri"/>
              </a:rPr>
              <a:t>APPROCHE DU NIGÉRIA A LA SAUVEGARDE DE REDD +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2"/>
          <p:cNvSpPr/>
          <p:nvPr/>
        </p:nvSpPr>
        <p:spPr>
          <a:xfrm>
            <a:off x="228600" y="1752480"/>
            <a:ext cx="8610480" cy="4800600"/>
          </a:xfrm>
          <a:prstGeom prst="rect">
            <a:avLst/>
          </a:prstGeom>
          <a:solidFill>
            <a:srgbClr val="b3ea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 algn="just">
              <a:spcBef>
                <a:spcPts val="601"/>
              </a:spcBef>
              <a:buClr>
                <a:srgbClr val="0bd0d9"/>
              </a:buClr>
              <a:buFont typeface="Wingdings" charset="2"/>
              <a:buChar char=""/>
              <a:tabLst>
                <a:tab algn="l" pos="2728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Le Nigéria a fait des efforts pour élaborer sa propre approche aux sauvegardes REDD+ et l’adapter aux  garanties de Cancun en utilisant le cadre des principes et critères sociaux et environnementaux du programme ONU-REDD (SEPC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1"/>
          <p:cNvSpPr/>
          <p:nvPr/>
        </p:nvSpPr>
        <p:spPr>
          <a:xfrm>
            <a:off x="-7632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PROCESSUS: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457200" y="1676520"/>
            <a:ext cx="8229600" cy="4647960"/>
          </a:xfrm>
          <a:prstGeom prst="rect">
            <a:avLst/>
          </a:prstGeom>
          <a:solidFill>
            <a:srgbClr val="c4e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 algn="just">
              <a:lnSpc>
                <a:spcPct val="110000"/>
              </a:lnSpc>
              <a:spcBef>
                <a:spcPts val="601"/>
              </a:spcBef>
              <a:buClr>
                <a:srgbClr val="0bd0d9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L‘Outil Bénéfices et Risques (BeRT) qui aide les pays à évaluer les avantages sociaux et environnementaux et les risques associés aux actions spécifiques de la REDD+  a été utilisé comme lignes directri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bd0d9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Le travail effectué inclut ce qui suit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bd0d9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Le principe et les critères ont été élaborés et adaptés au Système d'information sur les Sauvegar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1"/>
          <p:cNvSpPr/>
          <p:nvPr/>
        </p:nvSpPr>
        <p:spPr>
          <a:xfrm>
            <a:off x="3352680" y="228600"/>
            <a:ext cx="3124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4617b"/>
                </a:solidFill>
                <a:latin typeface="Calibri"/>
              </a:rPr>
              <a:t>PROCESSUS</a:t>
            </a:r>
            <a:r>
              <a:rPr b="0" lang="en-US" sz="2200" spc="-1" strike="noStrike">
                <a:solidFill>
                  <a:srgbClr val="04617b"/>
                </a:solidFill>
                <a:latin typeface="Calibri"/>
              </a:rPr>
              <a:t>  (suite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152280" y="609480"/>
            <a:ext cx="8839440" cy="83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spcBef>
                <a:spcPts val="499"/>
              </a:spcBef>
              <a:buClr>
                <a:srgbClr val="0bd0d9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'analyse risque-bénéfice des politiques et mesures candidates, par exe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4624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e règlement sur l'exploitation forestière, le moratoire, la concession agricole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46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4624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'évaluation de l'utilisation des terres, des facteurs de changement d'utilisation des terres, des lois forestières, des politiques et de la gouverna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46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4624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'évaluation participative de la gouvernance (PGA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46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4624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e processus analytique d'environ trente-quatre (34) PLR examinés par rapport aux activités et sauvegardes de REDD +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4624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Prise en compte et respect des sauvegardes par le biais des politiques ,Lois et règlements existants et leur mise en œuvre, dans le cadre stratégique national du REDD + du Niger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1"/>
          <p:cNvSpPr/>
          <p:nvPr/>
        </p:nvSpPr>
        <p:spPr>
          <a:xfrm>
            <a:off x="7391520" y="0"/>
            <a:ext cx="1752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7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b050"/>
                </a:solidFill>
                <a:latin typeface="Calibri"/>
              </a:rPr>
              <a:t>Cont’d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2"/>
          <p:cNvSpPr/>
          <p:nvPr/>
        </p:nvSpPr>
        <p:spPr>
          <a:xfrm>
            <a:off x="228600" y="1066680"/>
            <a:ext cx="8534520" cy="441972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 algn="just">
              <a:spcBef>
                <a:spcPts val="601"/>
              </a:spcBef>
              <a:buClr>
                <a:srgbClr val="0bd0d9"/>
              </a:buClr>
              <a:buFont typeface="Wingdings" charset="2"/>
              <a:buChar char="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La cartographie des avantages multiples au-delà du carbone, des cartes prioritaires ont été identifiées telles que les cartes de populations, les cartes d'écotourisme, les cartes de planification régionale, les cartes de produits forestiers non ligneux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Object 1"/>
          <p:cNvGraphicFramePr/>
          <p:nvPr/>
        </p:nvGraphicFramePr>
        <p:xfrm>
          <a:off x="304920" y="304920"/>
          <a:ext cx="8458200" cy="62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4920"/>
                    <a:ext cx="8458200" cy="62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1"/>
          <p:cNvSpPr/>
          <p:nvPr/>
        </p:nvSpPr>
        <p:spPr>
          <a:xfrm>
            <a:off x="1295280" y="685800"/>
            <a:ext cx="5562720" cy="63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94f5fa"/>
                </a:solidFill>
                <a:latin typeface="Calibri"/>
              </a:rPr>
              <a:t>FORCES ET OPPORTUNITÉ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228600" y="1600200"/>
            <a:ext cx="8686800" cy="5029200"/>
          </a:xfrm>
          <a:prstGeom prst="rect">
            <a:avLst/>
          </a:prstGeom>
          <a:solidFill>
            <a:srgbClr val="dbe7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Beaucoup a été réalisé pour prendre en compte et respecter les garanties de Cancú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Un temps suffisant n’a pas été accordé, mais beaucoup de choses ont été réalisées pour atteindre les objectifs multip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Aucun budget n' a été alloué au groupe de travail qui a effectué la plus grande partie de l'évaluation, les fonds sont nécessaires pour compléter le process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Plus de fonds sont nécessaires pour mener à bien les travaux restants pour atteindre l'objectif fix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1"/>
          <p:cNvSpPr/>
          <p:nvPr/>
        </p:nvSpPr>
        <p:spPr>
          <a:xfrm>
            <a:off x="1752480" y="579600"/>
            <a:ext cx="50292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LES DÉFI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2"/>
          <p:cNvSpPr/>
          <p:nvPr/>
        </p:nvSpPr>
        <p:spPr>
          <a:xfrm>
            <a:off x="0" y="1143000"/>
            <a:ext cx="91440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buClr>
                <a:srgbClr val="0bd0d9"/>
              </a:buClr>
              <a:buFont typeface="Wingdings" charset="2"/>
              <a:buChar char=""/>
              <a:tabLst>
                <a:tab algn="l" pos="1096920"/>
                <a:tab algn="l" pos="2011320"/>
                <a:tab algn="l" pos="2925720"/>
                <a:tab algn="l" pos="3840120"/>
                <a:tab algn="l" pos="4754520"/>
                <a:tab algn="l" pos="5668920"/>
                <a:tab algn="l" pos="6583320"/>
                <a:tab algn="l" pos="7497720"/>
                <a:tab algn="l" pos="8412120"/>
                <a:tab algn="l" pos="9326520"/>
                <a:tab algn="l" pos="1024092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Le manque de fonds et de temps pour compléter l'analyse des ''PLRs''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1096920"/>
                <a:tab algn="l" pos="2011320"/>
                <a:tab algn="l" pos="2925720"/>
                <a:tab algn="l" pos="3840120"/>
                <a:tab algn="l" pos="4754520"/>
                <a:tab algn="l" pos="5668920"/>
                <a:tab algn="l" pos="6583320"/>
                <a:tab algn="l" pos="7497720"/>
                <a:tab algn="l" pos="8412120"/>
                <a:tab algn="l" pos="9326520"/>
                <a:tab algn="l" pos="10240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bd0d9"/>
              </a:buClr>
              <a:buFont typeface="Wingdings" charset="2"/>
              <a:buChar char=""/>
              <a:tabLst>
                <a:tab algn="l" pos="1096920"/>
                <a:tab algn="l" pos="2011320"/>
                <a:tab algn="l" pos="2925720"/>
                <a:tab algn="l" pos="3840120"/>
                <a:tab algn="l" pos="4754520"/>
                <a:tab algn="l" pos="5668920"/>
                <a:tab algn="l" pos="6583320"/>
                <a:tab algn="l" pos="7497720"/>
                <a:tab algn="l" pos="8412120"/>
                <a:tab algn="l" pos="9326520"/>
                <a:tab algn="l" pos="1024092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Le CGES est en cours à Cross River State (CRS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349"/>
              </a:spcBef>
              <a:tabLst>
                <a:tab algn="l" pos="0"/>
                <a:tab algn="l" pos="1096920"/>
                <a:tab algn="l" pos="2011320"/>
                <a:tab algn="l" pos="2925720"/>
                <a:tab algn="l" pos="3840120"/>
                <a:tab algn="l" pos="4754520"/>
                <a:tab algn="l" pos="5668920"/>
                <a:tab algn="l" pos="6583320"/>
                <a:tab algn="l" pos="7497720"/>
                <a:tab algn="l" pos="8412120"/>
                <a:tab algn="l" pos="9326520"/>
                <a:tab algn="l" pos="1024092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bd0d9"/>
              </a:buClr>
              <a:buFont typeface="Wingdings" charset="2"/>
              <a:buChar char=""/>
              <a:tabLst>
                <a:tab algn="l" pos="1096920"/>
                <a:tab algn="l" pos="2011320"/>
                <a:tab algn="l" pos="2925720"/>
                <a:tab algn="l" pos="3840120"/>
                <a:tab algn="l" pos="4754520"/>
                <a:tab algn="l" pos="5668920"/>
                <a:tab algn="l" pos="6583320"/>
                <a:tab algn="l" pos="7497720"/>
                <a:tab algn="l" pos="8412120"/>
                <a:tab algn="l" pos="9326520"/>
                <a:tab algn="l" pos="1024092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Le mécanisme de partage des avantages est en cours à Cross River State (CRS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349"/>
              </a:spcBef>
              <a:tabLst>
                <a:tab algn="l" pos="0"/>
                <a:tab algn="l" pos="1096920"/>
                <a:tab algn="l" pos="2011320"/>
                <a:tab algn="l" pos="2925720"/>
                <a:tab algn="l" pos="3840120"/>
                <a:tab algn="l" pos="4754520"/>
                <a:tab algn="l" pos="5668920"/>
                <a:tab algn="l" pos="6583320"/>
                <a:tab algn="l" pos="7497720"/>
                <a:tab algn="l" pos="8412120"/>
                <a:tab algn="l" pos="9326520"/>
                <a:tab algn="l" pos="1024092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bd0d9"/>
              </a:buClr>
              <a:buFont typeface="Wingdings" charset="2"/>
              <a:buChar char=""/>
              <a:tabLst>
                <a:tab algn="l" pos="1096920"/>
                <a:tab algn="l" pos="2011320"/>
                <a:tab algn="l" pos="2925720"/>
                <a:tab algn="l" pos="3840120"/>
                <a:tab algn="l" pos="4754520"/>
                <a:tab algn="l" pos="5668920"/>
                <a:tab algn="l" pos="6583320"/>
                <a:tab algn="l" pos="7497720"/>
                <a:tab algn="l" pos="8412120"/>
                <a:tab algn="l" pos="9326520"/>
                <a:tab algn="l" pos="1024092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Certains risques ont été identifiés comme plus difficiles dans le cadre de la politique stratégique et des mesures, (l'érosion des sols aux barrages hydroélectriques / du développement des infrastructures à l'enlèvement de la forêt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96920"/>
                <a:tab algn="l" pos="2011320"/>
                <a:tab algn="l" pos="2925720"/>
                <a:tab algn="l" pos="3840120"/>
                <a:tab algn="l" pos="4754520"/>
                <a:tab algn="l" pos="5668920"/>
                <a:tab algn="l" pos="6583320"/>
                <a:tab algn="l" pos="7497720"/>
                <a:tab algn="l" pos="8412120"/>
                <a:tab algn="l" pos="9326520"/>
                <a:tab algn="l" pos="10240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96920"/>
                <a:tab algn="l" pos="2011320"/>
                <a:tab algn="l" pos="2925720"/>
                <a:tab algn="l" pos="3840120"/>
                <a:tab algn="l" pos="4754520"/>
                <a:tab algn="l" pos="5668920"/>
                <a:tab algn="l" pos="6583320"/>
                <a:tab algn="l" pos="7497720"/>
                <a:tab algn="l" pos="8412120"/>
                <a:tab algn="l" pos="9326520"/>
                <a:tab algn="l" pos="1024092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96920"/>
                <a:tab algn="l" pos="2011320"/>
                <a:tab algn="l" pos="2925720"/>
                <a:tab algn="l" pos="3840120"/>
                <a:tab algn="l" pos="4754520"/>
                <a:tab algn="l" pos="5668920"/>
                <a:tab algn="l" pos="6583320"/>
                <a:tab algn="l" pos="7497720"/>
                <a:tab algn="l" pos="8412120"/>
                <a:tab algn="l" pos="9326520"/>
                <a:tab algn="l" pos="10240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96920"/>
                <a:tab algn="l" pos="2011320"/>
                <a:tab algn="l" pos="2925720"/>
                <a:tab algn="l" pos="3840120"/>
                <a:tab algn="l" pos="4754520"/>
                <a:tab algn="l" pos="5668920"/>
                <a:tab algn="l" pos="6583320"/>
                <a:tab algn="l" pos="7497720"/>
                <a:tab algn="l" pos="8412120"/>
                <a:tab algn="l" pos="9326520"/>
                <a:tab algn="l" pos="10240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1"/>
          <p:cNvSpPr/>
          <p:nvPr/>
        </p:nvSpPr>
        <p:spPr>
          <a:xfrm>
            <a:off x="1447920" y="457200"/>
            <a:ext cx="4495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Arial Black"/>
              </a:rPr>
              <a:t>LES</a:t>
            </a:r>
            <a:r>
              <a:rPr b="0" lang="en-US" sz="3200" spc="-1" strike="noStrike">
                <a:solidFill>
                  <a:srgbClr val="00b050"/>
                </a:solidFill>
                <a:latin typeface="Arial Black"/>
              </a:rPr>
              <a:t> LEÇONS</a:t>
            </a:r>
            <a:r>
              <a:rPr b="1" lang="en-US" sz="3200" spc="-1" strike="noStrike">
                <a:solidFill>
                  <a:srgbClr val="00b050"/>
                </a:solidFill>
                <a:latin typeface="Arial Black"/>
              </a:rPr>
              <a:t> </a:t>
            </a: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2"/>
          <p:cNvSpPr/>
          <p:nvPr/>
        </p:nvSpPr>
        <p:spPr>
          <a:xfrm>
            <a:off x="228600" y="1066680"/>
            <a:ext cx="89154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Le processus d'évaluation est utile et guidera notre approche / travail future en matière de sauvegard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Ce serait bon si différents programmes de soutien financent les activités REDD+ pour une atténuation efficace des changements climatiqu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Les politiques, lois et règlements pertinents, soit existants ou en vigueur créées pour la REDD+ ont été identifiés (les indicateurs, les méthodologies, la collecte de données et le cadre pour la fourniture d'informations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Le calendrier approprié, le nombre d'évaluations et les réunions devraient être considérés pour obtenir les objectifs souhaité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Un projet de système d'information sur les sauvegardes a été développé par le groupe de travail en utilisant la sauvegarde de Cancun, un processus dirigé par le PNUE-WCM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1"/>
          <p:cNvSpPr/>
          <p:nvPr/>
        </p:nvSpPr>
        <p:spPr>
          <a:xfrm>
            <a:off x="457200" y="274680"/>
            <a:ext cx="8229600" cy="6278400"/>
          </a:xfrm>
          <a:prstGeom prst="rect">
            <a:avLst/>
          </a:prstGeom>
          <a:noFill/>
          <a:ln cap="sq" w="9360">
            <a:solidFill>
              <a:srgbClr val="00b050"/>
            </a:solidFill>
            <a:custDash>
              <a:ds d="400000" sp="300000"/>
              <a:ds d="1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6000" spc="-1" strike="noStrike">
                <a:solidFill>
                  <a:srgbClr val="04617b"/>
                </a:solidFill>
                <a:latin typeface="Arial Black"/>
              </a:rPr>
              <a:t>MERCI 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3T06:41:49Z</dcterms:created>
  <dc:creator>abdul</dc:creator>
  <dc:description/>
  <dc:language>en-US</dc:language>
  <cp:lastModifiedBy>sebastien</cp:lastModifiedBy>
  <dcterms:modified xsi:type="dcterms:W3CDTF">2018-06-11T22:25:27Z</dcterms:modified>
  <cp:revision>123</cp:revision>
  <dc:subject/>
  <dc:title>BACKGROUND OF REDD+ PROGRAMME IN NIGERIA: Nigeria joined REDD+ Programme around 2008-2009 under the UN_REDD Programme,  afterwards applied for the Forest Carbon Partnership Facility (FCPF) of the World Bank group in 2015</dc:title>
</cp:coreProperties>
</file>