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wmf" ContentType="image/x-wmf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773C5-402A-450D-A243-BD8F762C64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BAE5C-1241-45B7-ADE0-DBEA80D8F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BF223-8724-4493-A135-E22D7A69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005A7-3D81-4ADD-BDC7-8AA7BD97F5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8E423E-B13E-499C-9E6C-E9156A187D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996ADD-CC5D-4780-8C06-7C7FE95DE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FD9592-8ADE-4748-AF5A-4DB41647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B3D0BB-289C-46B0-89F8-5151B102F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80B859-888C-4141-8245-A144C0C6B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92F806-9A73-484B-9FF9-19EF79163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AE0E3A-656D-44E8-BB8B-2CD85EE47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92705-929F-47C9-B1C2-0FF94F68A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F030F0-918B-4324-B574-02339AA43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D52D19-92E7-472E-80D8-9D52C17DE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61722F-B194-4E79-853A-BA42C6873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E17D73-2732-4355-AE44-7634AE1B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CCBA63-85D7-4540-976E-CCF05F7C08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891E9-0221-4657-AB9D-AEE925B409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F067E-5952-4600-8B71-F9F602D67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127C4-2EA1-4EB1-A2CF-68B4F714D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4A77C-3D86-4B28-9968-55B563C28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1F12F-6835-4ADE-B018-F0725F17A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A56EF-0582-4007-BB98-1664B2A8E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E5691-C4D4-44FE-B460-509936726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23856-5556-47BF-86B2-05C1C4E9E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1659E-A682-41F7-BB05-D2E25D82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714BF-18FF-41EA-A452-E6F5AD7F5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47EC0-62A2-4758-A11F-674D4F50B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0F0A0-EFD1-4CFC-BF46-FFCCCE8E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3B7B8-5A0E-4720-A452-D6322E70D6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A47E66-7F55-4C64-AB90-A34083500F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359BE7-1141-4C49-AC4A-67D2B52A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02AF08-B78F-4561-AF26-DBC43FF0F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27B9A-C420-48D6-97BE-C46B4B197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303ABC-E9CC-4995-9973-50FEE77E3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0BD93A-73FD-4CC5-9140-1703E5F4B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607B88-F8B3-4A5A-A5D8-666ADCBA1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B520B7-7D10-442F-A7E5-0AA63372B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34173A-E112-4E1F-8EEE-96AFA8F99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96748B-8CB1-4905-95EC-83993C487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60E71A-11BC-40F2-AE14-501E295DC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29D314-1587-4941-8578-1E066611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D6C6C2-B7F5-403F-A1AE-3AD8610620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54E9F-487C-4210-A258-90B28C7BE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582B6-62B8-48FF-BAC0-2802C58EE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3BCCB-EB97-43AD-A020-F8BF431D4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52EC3-E2AD-4E91-9384-345157AEB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817C5-11AE-414A-A2BD-5CC1CD4AF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6274"/>
                </a:srgbClr>
              </a:gs>
              <a:gs pos="100000">
                <a:srgbClr val="00ebf8">
                  <a:alpha val="5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6274"/>
                </a:srgbClr>
              </a:gs>
              <a:gs pos="100000">
                <a:srgbClr val="009be5">
                  <a:alpha val="3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80CF113-1517-4036-A8FB-06E5B6A225A9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8"/>
          <p:cNvGrpSpPr/>
          <p:nvPr/>
        </p:nvGrpSpPr>
        <p:grpSpPr>
          <a:xfrm>
            <a:off x="-19080" y="203040"/>
            <a:ext cx="9178920" cy="646200"/>
            <a:chOff x="-19080" y="203040"/>
            <a:chExt cx="9178920" cy="646200"/>
          </a:xfrm>
        </p:grpSpPr>
        <p:grpSp>
          <p:nvGrpSpPr>
            <p:cNvPr id="8" name="Group 9"/>
            <p:cNvGrpSpPr/>
            <p:nvPr/>
          </p:nvGrpSpPr>
          <p:grpSpPr>
            <a:xfrm>
              <a:off x="-19080" y="203040"/>
              <a:ext cx="9161280" cy="646200"/>
              <a:chOff x="-19080" y="203040"/>
              <a:chExt cx="9161280" cy="646200"/>
            </a:xfrm>
          </p:grpSpPr>
          <p:pic>
            <p:nvPicPr>
              <p:cNvPr id="9" name="Pictur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896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1"/>
              <p:cNvSpPr/>
              <p:nvPr/>
            </p:nvSpPr>
            <p:spPr>
              <a:xfrm rot="21420000">
                <a:off x="-18720" y="479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Group 12"/>
            <p:cNvGrpSpPr/>
            <p:nvPr/>
          </p:nvGrpSpPr>
          <p:grpSpPr>
            <a:xfrm>
              <a:off x="-19080" y="247680"/>
              <a:ext cx="9178920" cy="560520"/>
              <a:chOff x="-19080" y="247680"/>
              <a:chExt cx="9178920" cy="560520"/>
            </a:xfrm>
          </p:grpSpPr>
          <p:pic>
            <p:nvPicPr>
              <p:cNvPr id="12" name="Pictur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3080" cy="56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Text Box 14"/>
              <p:cNvSpPr/>
              <p:nvPr/>
            </p:nvSpPr>
            <p:spPr>
              <a:xfrm rot="214200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6274"/>
                </a:srgbClr>
              </a:gs>
              <a:gs pos="100000">
                <a:srgbClr val="00ebf8">
                  <a:alpha val="5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2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6274"/>
                </a:srgbClr>
              </a:gs>
              <a:gs pos="100000">
                <a:srgbClr val="009be5">
                  <a:alpha val="3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-19080" y="203040"/>
            <a:ext cx="9178920" cy="646200"/>
            <a:chOff x="-19080" y="203040"/>
            <a:chExt cx="9178920" cy="646200"/>
          </a:xfrm>
        </p:grpSpPr>
        <p:grpSp>
          <p:nvGrpSpPr>
            <p:cNvPr id="53" name="Group 4"/>
            <p:cNvGrpSpPr/>
            <p:nvPr/>
          </p:nvGrpSpPr>
          <p:grpSpPr>
            <a:xfrm>
              <a:off x="-19080" y="203040"/>
              <a:ext cx="9161280" cy="646200"/>
              <a:chOff x="-19080" y="203040"/>
              <a:chExt cx="9161280" cy="646200"/>
            </a:xfrm>
          </p:grpSpPr>
          <p:pic>
            <p:nvPicPr>
              <p:cNvPr id="54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896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Text Box 6"/>
              <p:cNvSpPr/>
              <p:nvPr/>
            </p:nvSpPr>
            <p:spPr>
              <a:xfrm rot="21420000">
                <a:off x="-18720" y="479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7"/>
            <p:cNvGrpSpPr/>
            <p:nvPr/>
          </p:nvGrpSpPr>
          <p:grpSpPr>
            <a:xfrm>
              <a:off x="-19080" y="247680"/>
              <a:ext cx="9178920" cy="560520"/>
              <a:chOff x="-19080" y="247680"/>
              <a:chExt cx="9178920" cy="560520"/>
            </a:xfrm>
          </p:grpSpPr>
          <p:pic>
            <p:nvPicPr>
              <p:cNvPr id="57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3080" cy="56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Text Box 9"/>
              <p:cNvSpPr/>
              <p:nvPr/>
            </p:nvSpPr>
            <p:spPr>
              <a:xfrm rot="214200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E08DF29-16AA-4198-A5A3-28C943A2AFBB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6274"/>
                </a:srgbClr>
              </a:gs>
              <a:gs pos="100000">
                <a:srgbClr val="00ebf8">
                  <a:alpha val="5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6274"/>
                </a:srgbClr>
              </a:gs>
              <a:gs pos="100000">
                <a:srgbClr val="009be5">
                  <a:alpha val="3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-19080" y="203040"/>
            <a:ext cx="9178920" cy="646200"/>
            <a:chOff x="-19080" y="203040"/>
            <a:chExt cx="9178920" cy="646200"/>
          </a:xfrm>
        </p:grpSpPr>
        <p:grpSp>
          <p:nvGrpSpPr>
            <p:cNvPr id="103" name="Group 4"/>
            <p:cNvGrpSpPr/>
            <p:nvPr/>
          </p:nvGrpSpPr>
          <p:grpSpPr>
            <a:xfrm>
              <a:off x="-19080" y="203040"/>
              <a:ext cx="9161280" cy="646200"/>
              <a:chOff x="-19080" y="203040"/>
              <a:chExt cx="9161280" cy="646200"/>
            </a:xfrm>
          </p:grpSpPr>
          <p:pic>
            <p:nvPicPr>
              <p:cNvPr id="104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896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Text Box 6"/>
              <p:cNvSpPr/>
              <p:nvPr/>
            </p:nvSpPr>
            <p:spPr>
              <a:xfrm rot="21420000">
                <a:off x="-18720" y="479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" name="Group 7"/>
            <p:cNvGrpSpPr/>
            <p:nvPr/>
          </p:nvGrpSpPr>
          <p:grpSpPr>
            <a:xfrm>
              <a:off x="-19080" y="247680"/>
              <a:ext cx="9178920" cy="560520"/>
              <a:chOff x="-19080" y="247680"/>
              <a:chExt cx="9178920" cy="560520"/>
            </a:xfrm>
          </p:grpSpPr>
          <p:pic>
            <p:nvPicPr>
              <p:cNvPr id="107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3080" cy="56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Text Box 9"/>
              <p:cNvSpPr/>
              <p:nvPr/>
            </p:nvSpPr>
            <p:spPr>
              <a:xfrm rot="214200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6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2D661B1-3078-4410-B27F-AD4DBFEAD1E3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1"/>
          <p:cNvSpPr/>
          <p:nvPr/>
        </p:nvSpPr>
        <p:spPr>
          <a:xfrm flipV="1" rot="420000">
            <a:off x="316404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2"/>
          <p:cNvSpPr/>
          <p:nvPr/>
        </p:nvSpPr>
        <p:spPr>
          <a:xfrm flipV="1" rot="420000">
            <a:off x="8002080" y="5358960"/>
            <a:ext cx="155880" cy="155520"/>
          </a:xfrm>
          <a:prstGeom prst="rtTriangle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3"/>
          <p:cNvSpPr/>
          <p:nvPr/>
        </p:nvSpPr>
        <p:spPr>
          <a:xfrm flipV="1">
            <a:off x="-9000" y="581400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6274"/>
                </a:srgbClr>
              </a:gs>
              <a:gs pos="100000">
                <a:srgbClr val="00ebf8">
                  <a:alpha val="5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4"/>
          <p:cNvSpPr/>
          <p:nvPr/>
        </p:nvSpPr>
        <p:spPr>
          <a:xfrm flipV="1">
            <a:off x="4381560" y="621756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6274"/>
                </a:srgbClr>
              </a:gs>
              <a:gs pos="100000">
                <a:srgbClr val="009be5">
                  <a:alpha val="3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7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sldNum" idx="8"/>
          </p:nvPr>
        </p:nvSpPr>
        <p:spPr>
          <a:xfrm>
            <a:off x="8076960" y="6356160"/>
            <a:ext cx="6080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05543FF-FC08-426E-88FF-7244AE4DF263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"/>
          <p:cNvSpPr/>
          <p:nvPr/>
        </p:nvSpPr>
        <p:spPr>
          <a:xfrm>
            <a:off x="457200" y="9907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900" spc="-1" strike="noStrike">
                <a:solidFill>
                  <a:srgbClr val="04617b"/>
                </a:solidFill>
                <a:latin typeface="Calibri"/>
              </a:rPr>
              <a:t>APPROCHE DU NIGÉRIA A LA SAUVEGARDE DE REDD +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2"/>
          <p:cNvSpPr/>
          <p:nvPr/>
        </p:nvSpPr>
        <p:spPr>
          <a:xfrm>
            <a:off x="228600" y="1752480"/>
            <a:ext cx="8610480" cy="4800600"/>
          </a:xfrm>
          <a:prstGeom prst="rect">
            <a:avLst/>
          </a:prstGeom>
          <a:solidFill>
            <a:srgbClr val="b3ea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 algn="just">
              <a:spcBef>
                <a:spcPts val="601"/>
              </a:spcBef>
              <a:buClr>
                <a:srgbClr val="0bd0d9"/>
              </a:buClr>
              <a:buFont typeface="Wingdings" charset="2"/>
              <a:buChar char=""/>
              <a:tabLst>
                <a:tab algn="l" pos="2728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Le Nigéria a fait des efforts pour élaborer sa propre approche aux sauvegardes REDD+ et l’adapter aux  garanties de Cancun en utilisant le cadre des principes et critères sociaux et environnementaux du programme ONU-REDD (SEPC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1"/>
          <p:cNvSpPr/>
          <p:nvPr/>
        </p:nvSpPr>
        <p:spPr>
          <a:xfrm>
            <a:off x="-7632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PROCESSUS: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457200" y="1676520"/>
            <a:ext cx="8229600" cy="4647960"/>
          </a:xfrm>
          <a:prstGeom prst="rect">
            <a:avLst/>
          </a:prstGeom>
          <a:solidFill>
            <a:srgbClr val="c4e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 algn="just">
              <a:lnSpc>
                <a:spcPct val="110000"/>
              </a:lnSpc>
              <a:spcBef>
                <a:spcPts val="601"/>
              </a:spcBef>
              <a:buClr>
                <a:srgbClr val="0bd0d9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L‘Outil Bénéfices et Risques (BeRT) qui aide les pays à évaluer les avantages sociaux et environnementaux et les risques associés aux actions spécifiques de la REDD+  a été utilisé comme lignes directri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bd0d9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Le travail effectué inclut ce qui suit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bd0d9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Le principe et les critères ont été élaborés et adaptés au Système d'information sur les Sauvegar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1"/>
          <p:cNvSpPr/>
          <p:nvPr/>
        </p:nvSpPr>
        <p:spPr>
          <a:xfrm>
            <a:off x="3352680" y="228600"/>
            <a:ext cx="3124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4617b"/>
                </a:solidFill>
                <a:latin typeface="Calibri"/>
              </a:rPr>
              <a:t>PROCESSUS</a:t>
            </a:r>
            <a:r>
              <a:rPr b="0" lang="en-US" sz="2200" spc="-1" strike="noStrike">
                <a:solidFill>
                  <a:srgbClr val="04617b"/>
                </a:solidFill>
                <a:latin typeface="Calibri"/>
              </a:rPr>
              <a:t>  (suite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152280" y="609480"/>
            <a:ext cx="8839440" cy="83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spcBef>
                <a:spcPts val="499"/>
              </a:spcBef>
              <a:buClr>
                <a:srgbClr val="0bd0d9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'analyse risque-bénéfice des politiques et mesures candidates, par exe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4624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e règlement sur l'exploitation forestière, le moratoire, la concession agricole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46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4624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'évaluation de l'utilisation des terres, des facteurs de changement d'utilisation des terres, des lois forestières, des politiques et de la gouverna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46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4624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'évaluation participative de la gouvernance (PGA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46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4624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e processus analytique d'environ trente-quatre (34) PLR examinés par rapport aux activités et sauvegardes de REDD +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4624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Prise en compte et respect des sauvegardes par le biais des politiques ,Lois et règlements existants et leur mise en œuvre, dans le cadre stratégique national du REDD + du Niger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1"/>
          <p:cNvSpPr/>
          <p:nvPr/>
        </p:nvSpPr>
        <p:spPr>
          <a:xfrm>
            <a:off x="7391520" y="0"/>
            <a:ext cx="1752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7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b050"/>
                </a:solidFill>
                <a:latin typeface="Calibri"/>
              </a:rPr>
              <a:t>Cont’d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2"/>
          <p:cNvSpPr/>
          <p:nvPr/>
        </p:nvSpPr>
        <p:spPr>
          <a:xfrm>
            <a:off x="228600" y="1066680"/>
            <a:ext cx="8534520" cy="441972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 algn="just">
              <a:spcBef>
                <a:spcPts val="601"/>
              </a:spcBef>
              <a:buClr>
                <a:srgbClr val="0bd0d9"/>
              </a:buClr>
              <a:buFont typeface="Wingdings" charset="2"/>
              <a:buChar char="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La cartographie des avantages multiples au-delà du carbone, des cartes prioritaires ont été identifiées telles que les cartes de populations, les cartes d'écotourisme, les cartes de planification régionale, les cartes de produits forestiers non ligneux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Object 1"/>
          <p:cNvGraphicFramePr/>
          <p:nvPr/>
        </p:nvGraphicFramePr>
        <p:xfrm>
          <a:off x="304920" y="304920"/>
          <a:ext cx="8458200" cy="62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4920"/>
                    <a:ext cx="8458200" cy="62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1"/>
          <p:cNvSpPr/>
          <p:nvPr/>
        </p:nvSpPr>
        <p:spPr>
          <a:xfrm>
            <a:off x="1295280" y="685800"/>
            <a:ext cx="5562720" cy="63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94f5fa"/>
                </a:solidFill>
                <a:latin typeface="Calibri"/>
              </a:rPr>
              <a:t>FORCES ET OPPORTUNITÉ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228600" y="1600200"/>
            <a:ext cx="8686800" cy="5029200"/>
          </a:xfrm>
          <a:prstGeom prst="rect">
            <a:avLst/>
          </a:prstGeom>
          <a:solidFill>
            <a:srgbClr val="dbe7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Beaucoup a été réalisé pour prendre en compte et respecter les garanties de Cancú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Un temps suffisant n’a pas été accordé, mais beaucoup de choses ont été réalisées pour atteindre les objectifs multip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Aucun budget n' a été alloué au groupe de travail qui a effectué la plus grande partie de l'évaluation, les fonds sont nécessaires pour compléter le process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Plus de fonds sont nécessaires pour mener à bien les travaux restants pour atteindre l'objectif fix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1"/>
          <p:cNvSpPr/>
          <p:nvPr/>
        </p:nvSpPr>
        <p:spPr>
          <a:xfrm>
            <a:off x="1752480" y="579600"/>
            <a:ext cx="50292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LES DÉFI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2"/>
          <p:cNvSpPr/>
          <p:nvPr/>
        </p:nvSpPr>
        <p:spPr>
          <a:xfrm>
            <a:off x="0" y="1143000"/>
            <a:ext cx="91440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buClr>
                <a:srgbClr val="0bd0d9"/>
              </a:buClr>
              <a:buFont typeface="Wingdings" charset="2"/>
              <a:buChar char=""/>
              <a:tabLst>
                <a:tab algn="l" pos="1096920"/>
                <a:tab algn="l" pos="2011320"/>
                <a:tab algn="l" pos="2925720"/>
                <a:tab algn="l" pos="3840120"/>
                <a:tab algn="l" pos="4754520"/>
                <a:tab algn="l" pos="5668920"/>
                <a:tab algn="l" pos="6583320"/>
                <a:tab algn="l" pos="7497720"/>
                <a:tab algn="l" pos="8412120"/>
                <a:tab algn="l" pos="9326520"/>
                <a:tab algn="l" pos="1024092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Le manque de fonds et de temps pour compléter l'analyse des ''PLRs''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1096920"/>
                <a:tab algn="l" pos="2011320"/>
                <a:tab algn="l" pos="2925720"/>
                <a:tab algn="l" pos="3840120"/>
                <a:tab algn="l" pos="4754520"/>
                <a:tab algn="l" pos="5668920"/>
                <a:tab algn="l" pos="6583320"/>
                <a:tab algn="l" pos="7497720"/>
                <a:tab algn="l" pos="8412120"/>
                <a:tab algn="l" pos="9326520"/>
                <a:tab algn="l" pos="10240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bd0d9"/>
              </a:buClr>
              <a:buFont typeface="Wingdings" charset="2"/>
              <a:buChar char=""/>
              <a:tabLst>
                <a:tab algn="l" pos="1096920"/>
                <a:tab algn="l" pos="2011320"/>
                <a:tab algn="l" pos="2925720"/>
                <a:tab algn="l" pos="3840120"/>
                <a:tab algn="l" pos="4754520"/>
                <a:tab algn="l" pos="5668920"/>
                <a:tab algn="l" pos="6583320"/>
                <a:tab algn="l" pos="7497720"/>
                <a:tab algn="l" pos="8412120"/>
                <a:tab algn="l" pos="9326520"/>
                <a:tab algn="l" pos="1024092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Le CGES est en cours à Cross River State (CRS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349"/>
              </a:spcBef>
              <a:tabLst>
                <a:tab algn="l" pos="0"/>
                <a:tab algn="l" pos="1096920"/>
                <a:tab algn="l" pos="2011320"/>
                <a:tab algn="l" pos="2925720"/>
                <a:tab algn="l" pos="3840120"/>
                <a:tab algn="l" pos="4754520"/>
                <a:tab algn="l" pos="5668920"/>
                <a:tab algn="l" pos="6583320"/>
                <a:tab algn="l" pos="7497720"/>
                <a:tab algn="l" pos="8412120"/>
                <a:tab algn="l" pos="9326520"/>
                <a:tab algn="l" pos="1024092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bd0d9"/>
              </a:buClr>
              <a:buFont typeface="Wingdings" charset="2"/>
              <a:buChar char=""/>
              <a:tabLst>
                <a:tab algn="l" pos="1096920"/>
                <a:tab algn="l" pos="2011320"/>
                <a:tab algn="l" pos="2925720"/>
                <a:tab algn="l" pos="3840120"/>
                <a:tab algn="l" pos="4754520"/>
                <a:tab algn="l" pos="5668920"/>
                <a:tab algn="l" pos="6583320"/>
                <a:tab algn="l" pos="7497720"/>
                <a:tab algn="l" pos="8412120"/>
                <a:tab algn="l" pos="9326520"/>
                <a:tab algn="l" pos="1024092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Le mécanisme de partage des avantages est en cours à Cross River State (CRS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349"/>
              </a:spcBef>
              <a:tabLst>
                <a:tab algn="l" pos="0"/>
                <a:tab algn="l" pos="1096920"/>
                <a:tab algn="l" pos="2011320"/>
                <a:tab algn="l" pos="2925720"/>
                <a:tab algn="l" pos="3840120"/>
                <a:tab algn="l" pos="4754520"/>
                <a:tab algn="l" pos="5668920"/>
                <a:tab algn="l" pos="6583320"/>
                <a:tab algn="l" pos="7497720"/>
                <a:tab algn="l" pos="8412120"/>
                <a:tab algn="l" pos="9326520"/>
                <a:tab algn="l" pos="1024092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bd0d9"/>
              </a:buClr>
              <a:buFont typeface="Wingdings" charset="2"/>
              <a:buChar char=""/>
              <a:tabLst>
                <a:tab algn="l" pos="1096920"/>
                <a:tab algn="l" pos="2011320"/>
                <a:tab algn="l" pos="2925720"/>
                <a:tab algn="l" pos="3840120"/>
                <a:tab algn="l" pos="4754520"/>
                <a:tab algn="l" pos="5668920"/>
                <a:tab algn="l" pos="6583320"/>
                <a:tab algn="l" pos="7497720"/>
                <a:tab algn="l" pos="8412120"/>
                <a:tab algn="l" pos="9326520"/>
                <a:tab algn="l" pos="1024092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Certains risques ont été identifiés comme plus difficiles dans le cadre de la politique stratégique et des mesures, (l'érosion des sols aux barrages hydroélectriques / du développement des infrastructures à l'enlèvement de la forêt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96920"/>
                <a:tab algn="l" pos="2011320"/>
                <a:tab algn="l" pos="2925720"/>
                <a:tab algn="l" pos="3840120"/>
                <a:tab algn="l" pos="4754520"/>
                <a:tab algn="l" pos="5668920"/>
                <a:tab algn="l" pos="6583320"/>
                <a:tab algn="l" pos="7497720"/>
                <a:tab algn="l" pos="8412120"/>
                <a:tab algn="l" pos="9326520"/>
                <a:tab algn="l" pos="10240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96920"/>
                <a:tab algn="l" pos="2011320"/>
                <a:tab algn="l" pos="2925720"/>
                <a:tab algn="l" pos="3840120"/>
                <a:tab algn="l" pos="4754520"/>
                <a:tab algn="l" pos="5668920"/>
                <a:tab algn="l" pos="6583320"/>
                <a:tab algn="l" pos="7497720"/>
                <a:tab algn="l" pos="8412120"/>
                <a:tab algn="l" pos="9326520"/>
                <a:tab algn="l" pos="1024092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96920"/>
                <a:tab algn="l" pos="2011320"/>
                <a:tab algn="l" pos="2925720"/>
                <a:tab algn="l" pos="3840120"/>
                <a:tab algn="l" pos="4754520"/>
                <a:tab algn="l" pos="5668920"/>
                <a:tab algn="l" pos="6583320"/>
                <a:tab algn="l" pos="7497720"/>
                <a:tab algn="l" pos="8412120"/>
                <a:tab algn="l" pos="9326520"/>
                <a:tab algn="l" pos="10240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96920"/>
                <a:tab algn="l" pos="2011320"/>
                <a:tab algn="l" pos="2925720"/>
                <a:tab algn="l" pos="3840120"/>
                <a:tab algn="l" pos="4754520"/>
                <a:tab algn="l" pos="5668920"/>
                <a:tab algn="l" pos="6583320"/>
                <a:tab algn="l" pos="7497720"/>
                <a:tab algn="l" pos="8412120"/>
                <a:tab algn="l" pos="9326520"/>
                <a:tab algn="l" pos="10240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1"/>
          <p:cNvSpPr/>
          <p:nvPr/>
        </p:nvSpPr>
        <p:spPr>
          <a:xfrm>
            <a:off x="1447920" y="457200"/>
            <a:ext cx="4495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Arial Black"/>
              </a:rPr>
              <a:t>LES</a:t>
            </a:r>
            <a:r>
              <a:rPr b="0" lang="en-US" sz="3200" spc="-1" strike="noStrike">
                <a:solidFill>
                  <a:srgbClr val="00b050"/>
                </a:solidFill>
                <a:latin typeface="Arial Black"/>
              </a:rPr>
              <a:t> LEÇONS</a:t>
            </a:r>
            <a:r>
              <a:rPr b="1" lang="en-US" sz="3200" spc="-1" strike="noStrike">
                <a:solidFill>
                  <a:srgbClr val="00b050"/>
                </a:solidFill>
                <a:latin typeface="Arial Black"/>
              </a:rPr>
              <a:t> </a:t>
            </a: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2"/>
          <p:cNvSpPr/>
          <p:nvPr/>
        </p:nvSpPr>
        <p:spPr>
          <a:xfrm>
            <a:off x="228600" y="1066680"/>
            <a:ext cx="89154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Le processus d'évaluation est utile et guidera notre approche / travail future en matière de sauvegard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Ce serait bon si différents programmes de soutien financent les activités REDD+ pour une atténuation efficace des changements climatiqu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Les politiques, lois et règlements pertinents, soit existants ou en vigueur créées pour la REDD+ ont été identifiés (les indicateurs, les méthodologies, la collecte de données et le cadre pour la fourniture d'informations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Le calendrier approprié, le nombre d'évaluations et les réunions devraient être considérés pour obtenir les objectifs souhaité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Un projet de système d'information sur les sauvegardes a été développé par le groupe de travail en utilisant la sauvegarde de Cancun, un processus dirigé par le PNUE-WCM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1"/>
          <p:cNvSpPr/>
          <p:nvPr/>
        </p:nvSpPr>
        <p:spPr>
          <a:xfrm>
            <a:off x="457200" y="274680"/>
            <a:ext cx="8229600" cy="6278400"/>
          </a:xfrm>
          <a:prstGeom prst="rect">
            <a:avLst/>
          </a:prstGeom>
          <a:noFill/>
          <a:ln cap="sq" w="9360">
            <a:solidFill>
              <a:srgbClr val="00b050"/>
            </a:solidFill>
            <a:custDash>
              <a:ds d="400000" sp="300000"/>
              <a:ds d="1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6000" spc="-1" strike="noStrike">
                <a:solidFill>
                  <a:srgbClr val="04617b"/>
                </a:solidFill>
                <a:latin typeface="Arial Black"/>
              </a:rPr>
              <a:t>MERCI 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3T06:41:49Z</dcterms:created>
  <dc:creator>abdul</dc:creator>
  <dc:description/>
  <dc:language>en-US</dc:language>
  <cp:lastModifiedBy>sebastien</cp:lastModifiedBy>
  <dcterms:modified xsi:type="dcterms:W3CDTF">2018-06-11T22:25:27Z</dcterms:modified>
  <cp:revision>123</cp:revision>
  <dc:subject/>
  <dc:title>BACKGROUND OF REDD+ PROGRAMME IN NIGERIA: Nigeria joined REDD+ Programme around 2008-2009 under the UN_REDD Programme,  afterwards applied for the Forest Carbon Partnership Facility (FCPF) of the World Bank group in 2015</dc:title>
</cp:coreProperties>
</file>