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CBA1-18A0-4A44-8EC4-E60233170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52A4-20A0-4E82-98F0-2B3FB45EA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50A9-63A8-41B2-944E-BFBAB0C58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6916-6515-4588-8A48-98BC63045F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E607-2CA0-43F6-8207-7EDC480408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A640-DCE1-4AE2-8C4E-6B3377A32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7910-5AB8-4D4C-990A-3325009B4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2E9E-C66C-4D50-9D39-F846778E4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DB7C-258D-4449-A8DC-1F85F5D57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56A5-E7B6-4075-B27C-6D53475E6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CFAC-6989-41A8-91FC-6BFD2663C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B9D5-0AC4-45EA-B87A-14F5CA307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108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828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520"/>
            <a:ext cx="2923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F94E-33D2-417E-A8B5-2D6EF4FBE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mazonfund.gov.br/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amazonfund.gov.br/" TargetMode="External"/><Relationship Id="rId4" Type="http://schemas.openxmlformats.org/officeDocument/2006/relationships/hyperlink" Target="http://www.amazonfund.gov.br/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425720" y="6248520"/>
            <a:ext cx="17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720" y="38160"/>
            <a:ext cx="8026560" cy="3160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98400" y="4292640"/>
            <a:ext cx="774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alie Unterstell, Ministry of Environment, BRAZI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3920" y="2997360"/>
            <a:ext cx="737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5e4c"/>
                </a:solidFill>
                <a:latin typeface="Arial Bold"/>
                <a:ea typeface="Arial Bold"/>
              </a:rPr>
              <a:t>                                                           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  <a:hlinkClick r:id="rId2"/>
              </a:rPr>
              <a:t>www.amazonfund.gov.b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8B2E-E1F1-4CC1-945A-BC1FC931D3F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0" y="698400"/>
            <a:ext cx="9345600" cy="5461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23960" y="901800"/>
            <a:ext cx="2006640" cy="431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876240"/>
            <a:ext cx="7873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9360" y="4724280"/>
            <a:ext cx="7873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05840" y="4406760"/>
            <a:ext cx="2510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5e4c"/>
                </a:solidFill>
                <a:latin typeface="Arial Bold"/>
                <a:ea typeface="Arial Bold"/>
              </a:rPr>
              <a:t> 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  <a:hlinkClick r:id="rId3"/>
              </a:rPr>
              <a:t>2012: USD 174 M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0280" y="4800600"/>
            <a:ext cx="5829120" cy="12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53680" y="3035160"/>
            <a:ext cx="265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5e4c"/>
                </a:solidFill>
                <a:latin typeface="Arial Bold"/>
                <a:ea typeface="Arial Bold"/>
              </a:rPr>
              <a:t> 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  <a:hlinkClick r:id="rId4"/>
              </a:rPr>
              <a:t>= 22.0 mi tons CO2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64560" y="3517920"/>
            <a:ext cx="251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5e4c"/>
                </a:solidFill>
                <a:latin typeface="Arial Bold"/>
                <a:ea typeface="Arial Bold"/>
              </a:rPr>
              <a:t>= 27.6 mi tons CO2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64560" y="3911760"/>
            <a:ext cx="251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5e4c"/>
                </a:solidFill>
                <a:latin typeface="Arial Bold"/>
                <a:ea typeface="Arial Bold"/>
              </a:rPr>
              <a:t>= 24.2 mi tons CO2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4560" y="4356000"/>
            <a:ext cx="251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5e4c"/>
                </a:solidFill>
                <a:latin typeface="Arial Bold"/>
                <a:ea typeface="Arial Bold"/>
              </a:rPr>
              <a:t>= 34.8 mi tons CO2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77040" y="5359320"/>
            <a:ext cx="1778040" cy="12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5040" y="5511960"/>
            <a:ext cx="807732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3b3b3"/>
                </a:solidFill>
                <a:latin typeface="Arial Bold Italic"/>
                <a:ea typeface="Arial Bold Italic"/>
              </a:rPr>
              <a:t>Total =  106.6 mi tons CO2e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3b3b3"/>
                </a:solidFill>
                <a:latin typeface="Arial Bold Italic"/>
                <a:ea typeface="Arial Bold Italic"/>
              </a:rPr>
              <a:t>is 10% of Brazil’s reduction of emissions between 2006-200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3b3b3"/>
                </a:solidFill>
                <a:latin typeface="Arial Bold Italic"/>
                <a:ea typeface="Arial Bold Italic"/>
              </a:rPr>
              <a:t>is equivalent to 2 x Norway’s 2011 emissions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41800" y="6337440"/>
            <a:ext cx="492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52.7 mi according to Statistics Nor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4B7D-56D9-484F-9A01-2D848E1671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282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 fontScale="95000"/>
          </a:bodyPr>
          <a:p>
            <a:pPr marL="363240" indent="-325800">
              <a:lnSpc>
                <a:spcPct val="100000"/>
              </a:lnSpc>
              <a:spcBef>
                <a:spcPts val="799"/>
              </a:spcBef>
              <a:buClr>
                <a:srgbClr val="645e4c"/>
              </a:buClr>
              <a:buFont typeface="Time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5e4c"/>
                </a:solidFill>
                <a:latin typeface="Arial Black"/>
                <a:ea typeface="Arial Black"/>
              </a:rPr>
              <a:t>AMAZON FUND GO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3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Arial Bold"/>
                <a:ea typeface="Arial Bold"/>
              </a:rPr>
              <a:t>Funds raised are earmarked for non-reimbursable funding for projects aimed at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3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50c20"/>
                </a:solidFill>
                <a:latin typeface="Lucida Grande"/>
                <a:ea typeface="Lucida Grande"/>
              </a:rPr>
              <a:t>␣</a:t>
            </a:r>
            <a:r>
              <a:rPr b="0" lang="en-US" sz="2100" spc="-1" strike="noStrike">
                <a:solidFill>
                  <a:srgbClr val="c50c2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c50c20"/>
                </a:solidFill>
                <a:latin typeface="Arial Bold"/>
                <a:ea typeface="Arial Bold"/>
              </a:rPr>
              <a:t>promoting a consistent and continuous </a:t>
            </a:r>
            <a:r>
              <a:rPr b="0" lang="en-US" sz="2400" spc="-1" strike="noStrike">
                <a:solidFill>
                  <a:srgbClr val="c50c20"/>
                </a:solidFill>
                <a:latin typeface="Arial Narrow Bold"/>
                <a:ea typeface="Arial Narrow Bold"/>
              </a:rPr>
              <a:t>reduction </a:t>
            </a:r>
            <a:r>
              <a:rPr b="0" lang="en-US" sz="2400" spc="-1" strike="noStrike">
                <a:solidFill>
                  <a:srgbClr val="c50c20"/>
                </a:solidFill>
                <a:latin typeface="Arial Bold"/>
                <a:ea typeface="Arial Bold"/>
              </a:rPr>
              <a:t>in the rate of deforestation in Braz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5a1a"/>
                </a:solidFill>
                <a:latin typeface="Lucida Grande"/>
                <a:ea typeface="Lucida Grande"/>
              </a:rPr>
              <a:t>␣</a:t>
            </a:r>
            <a:r>
              <a:rPr b="0" lang="en-US" sz="2400" spc="-1" strike="noStrike">
                <a:solidFill>
                  <a:srgbClr val="ed5a1a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ed5a1a"/>
                </a:solidFill>
                <a:latin typeface="Arial Bold"/>
                <a:ea typeface="Arial Bold"/>
              </a:rPr>
              <a:t>transforming the reduction of emissions from deforestation into a system that finances the conservation and sustainable use of fores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e25"/>
                </a:solidFill>
                <a:latin typeface="Lucida Grande"/>
                <a:ea typeface="Lucida Grande"/>
              </a:rPr>
              <a:t>␣</a:t>
            </a:r>
            <a:r>
              <a:rPr b="0" lang="en-US" sz="2400" spc="-1" strike="noStrike">
                <a:solidFill>
                  <a:srgbClr val="657e25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657e25"/>
                </a:solidFill>
                <a:latin typeface="Arial Bold"/>
                <a:ea typeface="Arial Bold"/>
              </a:rPr>
              <a:t>demonstrating the feasibility of the incentive mechanisms to reduce emissions from deforest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5420"/>
                </a:solidFill>
                <a:latin typeface="Lucida Grande"/>
                <a:ea typeface="Lucida Grande"/>
              </a:rPr>
              <a:t>␣</a:t>
            </a:r>
            <a:r>
              <a:rPr b="0" lang="en-US" sz="2400" spc="-1" strike="noStrike">
                <a:solidFill>
                  <a:srgbClr val="25542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255420"/>
                </a:solidFill>
                <a:latin typeface="Arial Bold"/>
                <a:ea typeface="Arial Bold"/>
              </a:rPr>
              <a:t>and making the forest more </a:t>
            </a:r>
            <a:r>
              <a:rPr b="0" lang="en-US" sz="2400" spc="-1" strike="noStrike">
                <a:solidFill>
                  <a:srgbClr val="255420"/>
                </a:solidFill>
                <a:latin typeface="Arial Narrow Bold"/>
                <a:ea typeface="Arial Narrow Bold"/>
              </a:rPr>
              <a:t>valuable </a:t>
            </a:r>
            <a:r>
              <a:rPr b="0" lang="en-US" sz="2400" spc="-1" strike="noStrike">
                <a:solidFill>
                  <a:srgbClr val="255420"/>
                </a:solidFill>
                <a:latin typeface="Arial Bold"/>
                <a:ea typeface="Arial Bold"/>
              </a:rPr>
              <a:t>than the alternative use of the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DF61-D0A1-4FCF-960B-5143F35ADD5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3590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645e4c"/>
              </a:buClr>
              <a:buFont typeface="Time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5e4c"/>
                </a:solidFill>
                <a:latin typeface="Arial Black"/>
                <a:ea typeface="Arial Black"/>
              </a:rPr>
              <a:t>BENEFICIARI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c6c6c"/>
                </a:solidFill>
                <a:latin typeface="Arial Bold"/>
                <a:ea typeface="Arial Bold"/>
              </a:rPr>
              <a:t>direct public administration agencies / indirect federal, state and municipal agencies / research foundations / NGO’s / civil society organizations of public interest / private companies / cooperatives / governmental and university research centers / scientific &amp; technological institutes / environmental land- use planning and support entities (federal, state and municipal) / research foundations / environmental control ent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CFBA-2B2F-41A3-9837-1DAD3E26ABF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558800"/>
            <a:ext cx="8508960" cy="476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6787-3956-4786-A6DB-FDEC9585EC0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" y="1270080"/>
            <a:ext cx="9636120" cy="539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6546-B2BA-412F-ABB1-C55431F07EE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33360" y="1816200"/>
            <a:ext cx="9807480" cy="48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EAC7-7BCC-49C5-8477-0B2DF6C2BAF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88800"/>
            <a:ext cx="9347040" cy="607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1D85-DD94-45AF-AD3E-0A8DE4DD3C2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706320"/>
            <a:ext cx="9563040" cy="612612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3263760" y="812880"/>
            <a:ext cx="5549760" cy="1574640"/>
            <a:chOff x="3263760" y="812880"/>
            <a:chExt cx="5549760" cy="1574640"/>
          </a:xfrm>
        </p:grpSpPr>
        <p:sp>
          <p:nvSpPr>
            <p:cNvPr id="111" name=""/>
            <p:cNvSpPr/>
            <p:nvPr/>
          </p:nvSpPr>
          <p:spPr>
            <a:xfrm>
              <a:off x="3263760" y="812880"/>
              <a:ext cx="5549760" cy="15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63760" y="812880"/>
              <a:ext cx="554976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8080"/>
                  </a:solidFill>
                  <a:latin typeface="Arial"/>
                  <a:ea typeface="Arial"/>
                </a:rPr>
                <a:t>ACTO (Amazon Cooperation Treaty Organization)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Arial"/>
                  <a:ea typeface="Arial"/>
                </a:rPr>
                <a:t>First international project launched in Rio+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651A-BA8C-430B-A0BF-56036879FCA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31920" y="876240"/>
            <a:ext cx="9806040" cy="529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0A57-F040-4911-BB00-CBE3FC87F8C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0560" y="812880"/>
            <a:ext cx="810288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E205-4548-43AD-92AB-4F0D0634368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mazon Fund: an innovative instrument in climate change and 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45720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lvl="1" marL="78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nancial instrum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s programs and projects that reflec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untry ownership and prior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vi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bas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bas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420840" y="698400"/>
            <a:ext cx="9971280" cy="546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31E9-1AEC-445B-B48E-22643073CA9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762120"/>
                <a:tab algn="l" pos="1117440"/>
                <a:tab algn="l" pos="1473120"/>
                <a:tab algn="l" pos="1828800"/>
                <a:tab algn="l" pos="2184480"/>
                <a:tab algn="l" pos="2540160"/>
                <a:tab algn="l" pos="2895480"/>
                <a:tab algn="l" pos="3251160"/>
                <a:tab algn="l" pos="3606840"/>
                <a:tab algn="l" pos="3962520"/>
                <a:tab algn="l" pos="4317840"/>
                <a:tab algn="l" pos="4622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45e4c"/>
                </a:solidFill>
                <a:latin typeface="Arial Black"/>
                <a:ea typeface="Arial Black"/>
              </a:rPr>
              <a:t>CURRENT PORTFOLI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63360" y="1521000"/>
            <a:ext cx="9258120" cy="51973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203040" y="3060720"/>
            <a:ext cx="2654280" cy="254160"/>
            <a:chOff x="203040" y="3060720"/>
            <a:chExt cx="2654280" cy="254160"/>
          </a:xfrm>
        </p:grpSpPr>
        <p:sp>
          <p:nvSpPr>
            <p:cNvPr id="130" name=""/>
            <p:cNvSpPr/>
            <p:nvPr/>
          </p:nvSpPr>
          <p:spPr>
            <a:xfrm>
              <a:off x="203040" y="3060720"/>
              <a:ext cx="26542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3040" y="3060720"/>
              <a:ext cx="2654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33333"/>
                  </a:solidFill>
                  <a:latin typeface="Arial Bold"/>
                  <a:ea typeface="Arial Bold"/>
                </a:rPr>
                <a:t>Forest govern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3080" y="6100920"/>
            <a:ext cx="1549080" cy="280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9120" y="6396120"/>
            <a:ext cx="1714680" cy="182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55880" y="6032520"/>
            <a:ext cx="52056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6819-373F-4A7E-8050-6ECB2DD9251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645e4c"/>
                </a:solidFill>
                <a:latin typeface="Arial Black"/>
                <a:ea typeface="Arial Black"/>
              </a:rPr>
              <a:t>Technical Committee (CTF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osed of six notables in S&amp;T, appointed by the Ministry of the Environment, based on a list submitted by the Brazilian Climate Change Fo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committee validates: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nual deforestation rate (measured by the National Instit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r Space Research - INPE)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verage historical deforestation rate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stimates of the forest carbon stock (determined by t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razilian Forest Ser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TFA ́s report shall determine the quantity of reduced emissions and authorize BNDES to raise the corresponding funds and issue diplo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1C75-585C-461A-B56D-F6CD313804D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645e4c"/>
              </a:buClr>
              <a:buFont typeface="Time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5e4c"/>
                </a:solidFill>
                <a:latin typeface="Arial Black"/>
                <a:ea typeface="Arial Black"/>
              </a:rPr>
              <a:t>Guidance Committee (COFA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sponsibleforthedefinitionofstrategic guidelines and criteria for the funds appl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committeeisconstitutedbyrepresentatives of governments and socie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ine agencies of the federal government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ine states of the Brazilian Legal Amazon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ix representatives of civil socie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FE75-9736-4EDA-A5E9-B92847F6051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762120"/>
                <a:tab algn="l" pos="1117440"/>
                <a:tab algn="l" pos="1473120"/>
                <a:tab algn="l" pos="1828800"/>
                <a:tab algn="l" pos="2184480"/>
                <a:tab algn="l" pos="2540160"/>
                <a:tab algn="l" pos="2895480"/>
                <a:tab algn="l" pos="3251160"/>
                <a:tab algn="l" pos="3606840"/>
                <a:tab algn="l" pos="3962520"/>
                <a:tab algn="l" pos="4317840"/>
                <a:tab algn="l" pos="4622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5e4c"/>
                </a:solidFill>
                <a:latin typeface="Arial Black"/>
                <a:ea typeface="Arial Black"/>
              </a:rPr>
              <a:t>TRANSPARENCY AND COMMUNICATION</a:t>
            </a:r>
            <a:br>
              <a:rPr sz="2600"/>
            </a:b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</a:rPr>
              <a:t>www.fundoamazonia.gov.br</a:t>
            </a:r>
            <a:r>
              <a:rPr b="0" lang="en-US" sz="2100" spc="-1" strike="noStrike">
                <a:solidFill>
                  <a:srgbClr val="645e4c"/>
                </a:solidFill>
                <a:latin typeface="Arial Bold"/>
                <a:ea typeface="Arial Bold"/>
              </a:rPr>
              <a:t>           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</a:rPr>
              <a:t>www.amazonfund.gov.b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0760"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762120"/>
                <a:tab algn="l" pos="1117440"/>
                <a:tab algn="l" pos="1473120"/>
                <a:tab algn="l" pos="1828800"/>
                <a:tab algn="l" pos="2184480"/>
                <a:tab algn="l" pos="2540160"/>
                <a:tab algn="l" pos="2895480"/>
                <a:tab algn="l" pos="3251160"/>
                <a:tab algn="l" pos="3606840"/>
                <a:tab algn="l" pos="3962520"/>
                <a:tab algn="l" pos="4317840"/>
                <a:tab algn="l" pos="4622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Bold"/>
                <a:ea typeface="Verdana Bold"/>
              </a:rPr>
              <a:t>Transpar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Publicinformation: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guidelines’s framework,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elegible areas,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COFA’s guidelines and priorities,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fundamental criterias and general BNDES’s procedures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␣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current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racts ar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Bold"/>
                <a:ea typeface="Verdana Bold"/>
              </a:rPr>
              <a:t>Account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Monitoring framework, including project level • Annual Reports • Independent and external financial and com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auditing • Diploma issuance to don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8A48-627E-482A-9090-E2071D1AEDF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4680" y="723960"/>
            <a:ext cx="8856720" cy="595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7161-6BE9-42F0-9F8B-EF47BF64D8A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80720" y="6248520"/>
            <a:ext cx="26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19976" t="14562" r="21118" b="21452"/>
          <a:stretch/>
        </p:blipFill>
        <p:spPr>
          <a:xfrm>
            <a:off x="749160" y="1082520"/>
            <a:ext cx="7631280" cy="467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4FA4-27D9-4B5B-B481-8A64A006D02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21649" t="20468" r="21652" b="17515"/>
          <a:stretch/>
        </p:blipFill>
        <p:spPr>
          <a:xfrm>
            <a:off x="1001880" y="1154160"/>
            <a:ext cx="734364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6148-11F0-4B9D-A0BB-8DE5A625C78B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25720" y="6248520"/>
            <a:ext cx="17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2440" y="947880"/>
            <a:ext cx="7175520" cy="41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DB6E-3D36-403C-9F53-3038209C131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5e4c"/>
                </a:solidFill>
                <a:latin typeface="Arial Black"/>
                <a:ea typeface="Arial Black"/>
              </a:rPr>
              <a:t>RESULTS-BASED APPROACH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25720" y="6248520"/>
            <a:ext cx="17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562040"/>
            <a:ext cx="8558280" cy="345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7440-258D-4C9D-A755-CDA3CD71BB5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762120"/>
                <a:tab algn="l" pos="1117440"/>
                <a:tab algn="l" pos="1473120"/>
                <a:tab algn="l" pos="1828800"/>
                <a:tab algn="l" pos="2184480"/>
                <a:tab algn="l" pos="2540160"/>
                <a:tab algn="l" pos="2895480"/>
                <a:tab algn="l" pos="3251160"/>
                <a:tab algn="l" pos="3606840"/>
                <a:tab algn="l" pos="3962520"/>
                <a:tab algn="l" pos="4317840"/>
                <a:tab algn="l" pos="4622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5e4c"/>
                </a:solidFill>
                <a:latin typeface="Arial Black"/>
                <a:ea typeface="Arial Black"/>
              </a:rPr>
              <a:t>RESULTS-BASED APPROACH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25720" y="6248520"/>
            <a:ext cx="17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1800" y="1486080"/>
            <a:ext cx="7877160" cy="513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A767-830B-4EA7-95CC-A2C4CB5540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43080" indent="-343080">
              <a:lnSpc>
                <a:spcPct val="100000"/>
              </a:lnSpc>
              <a:buClr>
                <a:srgbClr val="645e4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5e4c"/>
                </a:solidFill>
                <a:latin typeface="Arial Black"/>
                <a:ea typeface="Arial Black"/>
              </a:rPr>
              <a:t>RESULTS-BASED APPROACH </a:t>
            </a:r>
            <a:r>
              <a:rPr b="0" lang="en-US" sz="2200" spc="-1" strike="noStrike">
                <a:solidFill>
                  <a:srgbClr val="ed5a1a"/>
                </a:solidFill>
                <a:latin typeface="Arial Bold"/>
                <a:ea typeface="Arial Bold"/>
              </a:rPr>
              <a:t>Monitoring system for the Brazilian Amazon: </a:t>
            </a:r>
            <a:br>
              <a:rPr sz="2200"/>
            </a:br>
            <a:r>
              <a:rPr b="0" lang="en-US" sz="2200" spc="-1" strike="noStrike">
                <a:solidFill>
                  <a:srgbClr val="ed5a1a"/>
                </a:solidFill>
                <a:latin typeface="Arial Bold"/>
                <a:ea typeface="Arial Bold"/>
              </a:rPr>
              <a:t>INPE (since 1988) Prodes Methodology </a:t>
            </a:r>
            <a:br>
              <a:rPr sz="2200"/>
            </a:br>
            <a:r>
              <a:rPr b="0" lang="en-US" sz="2200" spc="-1" strike="noStrike">
                <a:solidFill>
                  <a:srgbClr val="ed5a1a"/>
                </a:solidFill>
                <a:latin typeface="Arial Bold"/>
                <a:ea typeface="Arial Bold"/>
              </a:rPr>
              <a:t>(Deforestation Monitoring Project in the Legal Amaz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882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Arial"/>
                <a:ea typeface="Arial"/>
              </a:rPr>
              <a:t>•</a:t>
            </a:r>
            <a:r>
              <a:rPr b="0" lang="en-US" sz="2100" spc="-1" strike="noStrike">
                <a:solidFill>
                  <a:srgbClr val="6c6c6c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100" spc="-1" strike="noStrike">
                <a:solidFill>
                  <a:srgbClr val="6c6c6c"/>
                </a:solidFill>
                <a:latin typeface="Arial Bold"/>
                <a:ea typeface="Arial Bold"/>
              </a:rPr>
              <a:t>Based on reduced emission from deforestation </a:t>
            </a:r>
            <a:r>
              <a:rPr b="0" lang="en-US" sz="2100" spc="-1" strike="noStrike">
                <a:solidFill>
                  <a:srgbClr val="6c6c6c"/>
                </a:solidFill>
                <a:latin typeface="Arial"/>
                <a:ea typeface="Arial"/>
              </a:rPr>
              <a:t>•</a:t>
            </a:r>
            <a:r>
              <a:rPr b="0" lang="en-US" sz="2100" spc="-1" strike="noStrike">
                <a:solidFill>
                  <a:srgbClr val="6c6c6c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100" spc="-1" strike="noStrike">
                <a:solidFill>
                  <a:srgbClr val="6c6c6c"/>
                </a:solidFill>
                <a:latin typeface="Arial Bold"/>
                <a:ea typeface="Arial Bold"/>
              </a:rPr>
              <a:t>New resources are only raised when emissions in the Amazon have in fa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Arial Bold"/>
                <a:ea typeface="Arial Bold"/>
              </a:rPr>
              <a:t>been reduc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Arial"/>
                <a:ea typeface="Arial"/>
              </a:rPr>
              <a:t>•</a:t>
            </a:r>
            <a:r>
              <a:rPr b="0" lang="en-US" sz="2100" spc="-1" strike="noStrike">
                <a:solidFill>
                  <a:srgbClr val="6c6c6c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100" spc="-1" strike="noStrike">
                <a:solidFill>
                  <a:srgbClr val="6c6c6c"/>
                </a:solidFill>
                <a:latin typeface="Arial Bold"/>
                <a:ea typeface="Arial Bold"/>
              </a:rPr>
              <a:t>Emissions avoided are based on the deforestation reduction compared to the 10-year average deforestation rate, revised every five yea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Arial"/>
                <a:ea typeface="Arial"/>
              </a:rPr>
              <a:t>•</a:t>
            </a:r>
            <a:r>
              <a:rPr b="0" lang="en-US" sz="2100" spc="-1" strike="noStrike">
                <a:solidFill>
                  <a:srgbClr val="6c6c6c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100" spc="-1" strike="noStrike">
                <a:solidFill>
                  <a:srgbClr val="6c6c6c"/>
                </a:solidFill>
                <a:latin typeface="Arial Bold"/>
                <a:ea typeface="Arial Bold"/>
              </a:rPr>
              <a:t>If deforestation rate is higher than the average rate, the Fund will not be able to raise funds in that ye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Arial"/>
                <a:ea typeface="Arial"/>
              </a:rPr>
              <a:t>•</a:t>
            </a:r>
            <a:r>
              <a:rPr b="0" lang="en-US" sz="2100" spc="-1" strike="noStrike">
                <a:solidFill>
                  <a:srgbClr val="6c6c6c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100" spc="-1" strike="noStrike">
                <a:solidFill>
                  <a:srgbClr val="6c6c6c"/>
                </a:solidFill>
                <a:latin typeface="Arial Bold"/>
                <a:ea typeface="Arial Bold"/>
              </a:rPr>
              <a:t>Emissions are calculated as of the deforestation rate per hectare in the yea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25720" y="6248520"/>
            <a:ext cx="17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7B33-4FFE-460B-9D00-B2C1C15AA86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43080" indent="-343080">
              <a:lnSpc>
                <a:spcPct val="100000"/>
              </a:lnSpc>
              <a:buClr>
                <a:srgbClr val="645e4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5e4c"/>
                </a:solidFill>
                <a:latin typeface="Arial Black"/>
                <a:ea typeface="Arial Black"/>
              </a:rPr>
              <a:t>RESULTS-BASED APPROACH </a:t>
            </a:r>
            <a:r>
              <a:rPr b="0" lang="en-US" sz="2500" spc="-1" strike="noStrike">
                <a:solidFill>
                  <a:srgbClr val="645e4c"/>
                </a:solidFill>
                <a:latin typeface="Arial Black"/>
                <a:ea typeface="Arial Black"/>
              </a:rPr>
              <a:t>Equivalence of Carbon per Hectare of Fores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Arial"/>
                <a:ea typeface="Arial"/>
              </a:rPr>
              <a:t>•</a:t>
            </a:r>
            <a:r>
              <a:rPr b="0" lang="en-US" sz="2300" spc="-1" strike="noStrike">
                <a:solidFill>
                  <a:srgbClr val="6c6c6c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Arial Bold"/>
                <a:ea typeface="Arial Bold"/>
              </a:rPr>
              <a:t>The Amazon Fund uses the value of 100 tC/ha (tons of carbon per hectare) of biomass corresponding to 367 tCO2e/ha (tons of carbon dioxide per hectare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Arial"/>
                <a:ea typeface="Arial"/>
              </a:rPr>
              <a:t>•</a:t>
            </a:r>
            <a:r>
              <a:rPr b="0" lang="en-US" sz="2300" spc="-1" strike="noStrike">
                <a:solidFill>
                  <a:srgbClr val="6c6c6c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Arial Bold"/>
                <a:ea typeface="Arial Bold"/>
              </a:rPr>
              <a:t>An extremely conservative value when compared with literature data (from 130 to 320 tC/ha), but adequate to the simplicity intended for the computation method and helpful to its understanding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25720" y="6248520"/>
            <a:ext cx="17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764F-A8B4-4BE2-89CA-A01D2971D9F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762120"/>
                <a:tab algn="l" pos="1117440"/>
                <a:tab algn="l" pos="1473120"/>
                <a:tab algn="l" pos="1828800"/>
                <a:tab algn="l" pos="2184480"/>
                <a:tab algn="l" pos="2540160"/>
                <a:tab algn="l" pos="2895480"/>
                <a:tab algn="l" pos="3251160"/>
                <a:tab algn="l" pos="3606840"/>
                <a:tab algn="l" pos="3962520"/>
                <a:tab algn="l" pos="4317840"/>
                <a:tab algn="l" pos="4622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45e4c"/>
                </a:solidFill>
                <a:latin typeface="Arial Black"/>
                <a:ea typeface="Arial Black"/>
              </a:rPr>
              <a:t>RESULTS-BASED APPROACH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25720" y="6248520"/>
            <a:ext cx="17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36440" y="1511280"/>
            <a:ext cx="972504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2C28-5269-4093-A3E5-0132B8BB32C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240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5e4c"/>
                </a:solidFill>
                <a:latin typeface="Arial Black"/>
                <a:ea typeface="Arial Black"/>
              </a:rPr>
              <a:t>RECOG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65200" y="2145960"/>
            <a:ext cx="459756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onors contribute to the Amazon Fund and receive a non-transferable diploma, declaring the corresponding amount of emissions that were reduc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Italic"/>
                <a:ea typeface="Arial Italic"/>
              </a:rPr>
              <a:t>*donations do not generate any carbon cred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2120" y="1473120"/>
            <a:ext cx="3918240" cy="520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el Kazatchkine</dc:creator>
  <dc:description/>
  <dc:language>en-US</dc:language>
  <cp:lastModifiedBy/>
  <cp:revision>0</cp:revision>
  <dc:subject/>
  <dc:title>Présentation PowerPoint</dc:title>
</cp:coreProperties>
</file>