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7D5B-65C7-4DA1-9927-C3A394A10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8AD8-A8CF-4F2F-B9A1-37118E532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0D3C-C362-4D94-8AEE-7D1D69316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3FD7-A358-45E4-B4F3-84E3098007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2F93-04D3-4343-AF20-0101FDFE2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F6FF-0E29-40FD-84D6-D9A592521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ECD9-362F-4AD8-A56C-3B8E98CB2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04DC-A49D-4B51-9157-34BB680A2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28E4-2B41-4492-B2EA-19BFCB8DC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D0E1-41DE-4C0D-8868-BFDD3E898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D14C-FB9C-4AB6-B5D4-5168C61C3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8B1B-F70A-4292-BA5A-7F17AB8C6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520"/>
            <a:ext cx="2923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78F8-9E2E-4624-A9BD-E97E03003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mazonfund.gov.b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amazonfund.gov.br/" TargetMode="External"/><Relationship Id="rId4" Type="http://schemas.openxmlformats.org/officeDocument/2006/relationships/hyperlink" Target="http://www.amazonfund.gov.br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720" y="38160"/>
            <a:ext cx="8026560" cy="3160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8400" y="4292640"/>
            <a:ext cx="774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alie Unterstell, Ministry of Environment, BRAZ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997360"/>
            <a:ext cx="737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                                                        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2"/>
              </a:rPr>
              <a:t>www.amazonfund.gov.b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F228-ED88-4A63-B6EB-0918925392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0" y="698400"/>
            <a:ext cx="9345600" cy="546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23960" y="901800"/>
            <a:ext cx="2006640" cy="431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76240"/>
            <a:ext cx="7873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9360" y="4724280"/>
            <a:ext cx="7873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05840" y="4406760"/>
            <a:ext cx="251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3"/>
              </a:rPr>
              <a:t>2012: USD 174 M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280" y="4800600"/>
            <a:ext cx="582912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53680" y="3035160"/>
            <a:ext cx="26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4"/>
              </a:rPr>
              <a:t>= 22.0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64560" y="3517920"/>
            <a:ext cx="25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= 27.6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4560" y="3911760"/>
            <a:ext cx="25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= 24.2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4560" y="4356000"/>
            <a:ext cx="25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= 34.8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7040" y="5359320"/>
            <a:ext cx="177804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040" y="5511960"/>
            <a:ext cx="807732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3b3b3"/>
                </a:solidFill>
                <a:latin typeface="Arial Bold Italic"/>
                <a:ea typeface="Arial Bold Italic"/>
              </a:rPr>
              <a:t>Total =  106.6 mi tons CO2e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3b3b3"/>
                </a:solidFill>
                <a:latin typeface="Arial Bold Italic"/>
                <a:ea typeface="Arial Bold Italic"/>
              </a:rPr>
              <a:t>is 10% of Brazil’s reduction of emissions between 2006-200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3b3b3"/>
                </a:solidFill>
                <a:latin typeface="Arial Bold Italic"/>
                <a:ea typeface="Arial Bold Italic"/>
              </a:rPr>
              <a:t>is equivalent to 2 x Norway’s 2011 emissions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1800" y="6337440"/>
            <a:ext cx="492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52.7 mi according to Statistics Nor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530F-3849-4BB2-AF4D-B29D34FA8C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282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799"/>
              </a:spcBef>
              <a:buClr>
                <a:srgbClr val="645e4c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5e4c"/>
                </a:solidFill>
                <a:latin typeface="Arial Black"/>
                <a:ea typeface="Arial Black"/>
              </a:rPr>
              <a:t>AMAZON FUND GO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Arial Bold"/>
                <a:ea typeface="Arial Bold"/>
              </a:rPr>
              <a:t>Funds raised are earmarked for non-reimbursable funding for projects aimed at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0c20"/>
                </a:solidFill>
                <a:latin typeface="Lucida Grande"/>
                <a:ea typeface="Lucida Grande"/>
              </a:rPr>
              <a:t>␣</a:t>
            </a:r>
            <a:r>
              <a:rPr b="0" lang="en-US" sz="2100" spc="-1" strike="noStrike">
                <a:solidFill>
                  <a:srgbClr val="c50c2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c50c20"/>
                </a:solidFill>
                <a:latin typeface="Arial Bold"/>
                <a:ea typeface="Arial Bold"/>
              </a:rPr>
              <a:t>promoting a consistent and continuous </a:t>
            </a:r>
            <a:r>
              <a:rPr b="0" lang="en-US" sz="2400" spc="-1" strike="noStrike">
                <a:solidFill>
                  <a:srgbClr val="c50c20"/>
                </a:solidFill>
                <a:latin typeface="Arial Narrow Bold"/>
                <a:ea typeface="Arial Narrow Bold"/>
              </a:rPr>
              <a:t>reduction </a:t>
            </a:r>
            <a:r>
              <a:rPr b="0" lang="en-US" sz="2400" spc="-1" strike="noStrike">
                <a:solidFill>
                  <a:srgbClr val="c50c20"/>
                </a:solidFill>
                <a:latin typeface="Arial Bold"/>
                <a:ea typeface="Arial Bold"/>
              </a:rPr>
              <a:t>in the rate of deforestation in Braz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5a1a"/>
                </a:solidFill>
                <a:latin typeface="Lucida Grande"/>
                <a:ea typeface="Lucida Grande"/>
              </a:rPr>
              <a:t>␣</a:t>
            </a:r>
            <a:r>
              <a:rPr b="0" lang="en-US" sz="2400" spc="-1" strike="noStrike">
                <a:solidFill>
                  <a:srgbClr val="ed5a1a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ed5a1a"/>
                </a:solidFill>
                <a:latin typeface="Arial Bold"/>
                <a:ea typeface="Arial Bold"/>
              </a:rPr>
              <a:t>transforming the reduction of emissions from deforestation into a system that finances the conservation and sustainable use of fores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e25"/>
                </a:solidFill>
                <a:latin typeface="Lucida Grande"/>
                <a:ea typeface="Lucida Grande"/>
              </a:rPr>
              <a:t>␣</a:t>
            </a:r>
            <a:r>
              <a:rPr b="0" lang="en-US" sz="2400" spc="-1" strike="noStrike">
                <a:solidFill>
                  <a:srgbClr val="657e25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657e25"/>
                </a:solidFill>
                <a:latin typeface="Arial Bold"/>
                <a:ea typeface="Arial Bold"/>
              </a:rPr>
              <a:t>demonstrating the feasibility of the incentive mechanisms to reduce emissions from defores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5420"/>
                </a:solidFill>
                <a:latin typeface="Lucida Grande"/>
                <a:ea typeface="Lucida Grande"/>
              </a:rPr>
              <a:t>␣</a:t>
            </a:r>
            <a:r>
              <a:rPr b="0" lang="en-US" sz="2400" spc="-1" strike="noStrike">
                <a:solidFill>
                  <a:srgbClr val="25542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255420"/>
                </a:solidFill>
                <a:latin typeface="Arial Bold"/>
                <a:ea typeface="Arial Bold"/>
              </a:rPr>
              <a:t>and making the forest more </a:t>
            </a:r>
            <a:r>
              <a:rPr b="0" lang="en-US" sz="2400" spc="-1" strike="noStrike">
                <a:solidFill>
                  <a:srgbClr val="255420"/>
                </a:solidFill>
                <a:latin typeface="Arial Narrow Bold"/>
                <a:ea typeface="Arial Narrow Bold"/>
              </a:rPr>
              <a:t>valuable </a:t>
            </a:r>
            <a:r>
              <a:rPr b="0" lang="en-US" sz="2400" spc="-1" strike="noStrike">
                <a:solidFill>
                  <a:srgbClr val="255420"/>
                </a:solidFill>
                <a:latin typeface="Arial Bold"/>
                <a:ea typeface="Arial Bold"/>
              </a:rPr>
              <a:t>than the alternative use of the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BAB6-A843-461B-A5E9-C46E945D4E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645e4c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5e4c"/>
                </a:solidFill>
                <a:latin typeface="Arial Black"/>
                <a:ea typeface="Arial Black"/>
              </a:rPr>
              <a:t>BENEFICIAR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c6c6c"/>
                </a:solidFill>
                <a:latin typeface="Arial Bold"/>
                <a:ea typeface="Arial Bold"/>
              </a:rPr>
              <a:t>direct public administration agencies / indirect federal, state and municipal agencies / research foundations / NGO’s / civil society organizations of public interest / private companies / cooperatives / governmental and university research centers / scientific &amp; technological institutes / environmental land- use planning and support entities (federal, state and municipal) / research foundations / environmental control ent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7737-15A8-422D-B781-16CD385871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8800"/>
            <a:ext cx="8508960" cy="47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F76D-549F-4BBA-90DA-B2517CA1CC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" y="1270080"/>
            <a:ext cx="9636120" cy="53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D476-A106-4197-BA9D-CC0983369AF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33360" y="1816200"/>
            <a:ext cx="980748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296C-C988-4CF3-BCA2-59060B808F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347040" cy="607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3BD8-2840-4CAB-A590-2A082B604E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706320"/>
            <a:ext cx="9563040" cy="612612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263760" y="812880"/>
            <a:ext cx="5549760" cy="1574640"/>
            <a:chOff x="3263760" y="812880"/>
            <a:chExt cx="5549760" cy="1574640"/>
          </a:xfrm>
        </p:grpSpPr>
        <p:sp>
          <p:nvSpPr>
            <p:cNvPr id="111" name=""/>
            <p:cNvSpPr/>
            <p:nvPr/>
          </p:nvSpPr>
          <p:spPr>
            <a:xfrm>
              <a:off x="3263760" y="812880"/>
              <a:ext cx="5549760" cy="15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3760" y="812880"/>
              <a:ext cx="5549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ACTO (Amazon Cooperation Treaty Organization)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First international project launched in Rio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2381-09EA-4BB6-8B7B-ED561458187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31920" y="876240"/>
            <a:ext cx="9806040" cy="52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8F41-41AD-4832-AF13-FF343772A96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0560" y="812880"/>
            <a:ext cx="810288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A378-56B0-4EA3-8EAA-4292D8E849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mazon Fund: an innovative instrument in climate change and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45720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lvl="1" marL="78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ancial instru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s programs and projects that reflec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untry ownership and prior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420840" y="698400"/>
            <a:ext cx="9971280" cy="546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95A5-94E9-429E-A3CB-5B00DB240F0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45e4c"/>
                </a:solidFill>
                <a:latin typeface="Arial Black"/>
                <a:ea typeface="Arial Black"/>
              </a:rPr>
              <a:t>CURRENT PORTFOLI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3360" y="1521000"/>
            <a:ext cx="9258120" cy="51973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03040" y="3060720"/>
            <a:ext cx="2654280" cy="254160"/>
            <a:chOff x="203040" y="3060720"/>
            <a:chExt cx="2654280" cy="254160"/>
          </a:xfrm>
        </p:grpSpPr>
        <p:sp>
          <p:nvSpPr>
            <p:cNvPr id="130" name=""/>
            <p:cNvSpPr/>
            <p:nvPr/>
          </p:nvSpPr>
          <p:spPr>
            <a:xfrm>
              <a:off x="203040" y="3060720"/>
              <a:ext cx="26542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3040" y="3060720"/>
              <a:ext cx="265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3333"/>
                  </a:solidFill>
                  <a:latin typeface="Arial Bold"/>
                  <a:ea typeface="Arial Bold"/>
                </a:rPr>
                <a:t>Forest govern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3080" y="6100920"/>
            <a:ext cx="1549080" cy="28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9120" y="6396120"/>
            <a:ext cx="1714680" cy="182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55880" y="6032520"/>
            <a:ext cx="52056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F3A3-06C3-4FB7-AF36-7728A8FC8B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645e4c"/>
                </a:solidFill>
                <a:latin typeface="Arial Black"/>
                <a:ea typeface="Arial Black"/>
              </a:rPr>
              <a:t>Technical Committee (CT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osed of six notables in S&amp;T, appointed by the Ministry of the Environment, based on a list submitted by the Brazilian Climate Change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committee validates: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nual deforestation rate (measured by the National Instit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 Space Research - INPE)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erage historical deforestation rate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stimates of the forest carbon stock (determined by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razilian Forest Ser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TFA ́s report shall determine the quantity of reduced emissions and authorize BNDES to raise the corresponding funds and issue diplo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2911-2785-4860-BFD9-F1060468CA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645e4c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5e4c"/>
                </a:solidFill>
                <a:latin typeface="Arial Black"/>
                <a:ea typeface="Arial Black"/>
              </a:rPr>
              <a:t>Guidance Committee (COF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ponsibleforthedefinitionofstrategic guidelines and criteria for the funds appl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committeeisconstitutedbyrepresentatives of governments and soci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ne agencies of the federal government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ne states of the Brazilian Legal Amazon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x representatives of civil soci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4069-7B2A-4CCD-A5AA-6605CC4F68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5e4c"/>
                </a:solidFill>
                <a:latin typeface="Arial Black"/>
                <a:ea typeface="Arial Black"/>
              </a:rPr>
              <a:t>TRANSPARENCY AND COMMUNICATION</a:t>
            </a:r>
            <a:br>
              <a:rPr sz="2600"/>
            </a:b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</a:rPr>
              <a:t>www.fundoamazonia.gov.br</a:t>
            </a: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        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</a:rPr>
              <a:t>www.amazonfund.gov.b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Bold"/>
                <a:ea typeface="Verdana Bold"/>
              </a:rPr>
              <a:t>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ublicinformation: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guidelines’s framework,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legible areas,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FA’s guidelines and priorities,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fundamental criterias and general BNDES’s procedures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urrent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racts ar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Bold"/>
                <a:ea typeface="Verdana Bold"/>
              </a:rPr>
              <a:t>Accoun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Monitoring framework, including project level • Annual Reports • Independent and external financial and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auditing • Diploma issuance to don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18C2-E1B6-4846-BAF1-83AC6A01F0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4680" y="723960"/>
            <a:ext cx="8856720" cy="595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7652-D9F7-42C2-8443-03715DEAEEB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9976" t="14562" r="21118" b="21452"/>
          <a:stretch/>
        </p:blipFill>
        <p:spPr>
          <a:xfrm>
            <a:off x="749160" y="1082520"/>
            <a:ext cx="7631280" cy="467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8CC4-37A5-4FE2-A188-A161A702CC8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21649" t="20468" r="21652" b="17515"/>
          <a:stretch/>
        </p:blipFill>
        <p:spPr>
          <a:xfrm>
            <a:off x="1001880" y="1154160"/>
            <a:ext cx="734364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168A-E95E-460C-A9CD-8FB1EE17A0B1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440" y="947880"/>
            <a:ext cx="7175520" cy="41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B30C-D340-433D-A23A-FB6AC49BCC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562040"/>
            <a:ext cx="8558280" cy="34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4B40-B952-4B77-BE7F-026F65FBDE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1800" y="1486080"/>
            <a:ext cx="7877160" cy="51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3803-85C6-44C1-B5BA-88AABE9497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45e4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 </a:t>
            </a:r>
            <a:r>
              <a:rPr b="0" lang="en-US" sz="2200" spc="-1" strike="noStrike">
                <a:solidFill>
                  <a:srgbClr val="ed5a1a"/>
                </a:solidFill>
                <a:latin typeface="Arial Bold"/>
                <a:ea typeface="Arial Bold"/>
              </a:rPr>
              <a:t>Monitoring system for the Brazilian Amazon: </a:t>
            </a:r>
            <a:br>
              <a:rPr sz="2200"/>
            </a:br>
            <a:r>
              <a:rPr b="0" lang="en-US" sz="2200" spc="-1" strike="noStrike">
                <a:solidFill>
                  <a:srgbClr val="ed5a1a"/>
                </a:solidFill>
                <a:latin typeface="Arial Bold"/>
                <a:ea typeface="Arial Bold"/>
              </a:rPr>
              <a:t>INPE (since 1988) Prodes Methodology </a:t>
            </a:r>
            <a:br>
              <a:rPr sz="2200"/>
            </a:br>
            <a:r>
              <a:rPr b="0" lang="en-US" sz="2200" spc="-1" strike="noStrike">
                <a:solidFill>
                  <a:srgbClr val="ed5a1a"/>
                </a:solidFill>
                <a:latin typeface="Arial Bold"/>
                <a:ea typeface="Arial Bold"/>
              </a:rPr>
              <a:t>(Deforestation Monitoring Project in the Legal Amaz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882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Based on reduced emission from deforestation </a:t>
            </a: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New resources are only raised when emissions in the Amazon have in f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been reduc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Emissions avoided are based on the deforestation reduction compared to the 10-year average deforestation rate, revised every five yea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If deforestation rate is higher than the average rate, the Fund will not be able to raise funds in that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Emissions are calculated as of the deforestation rate per hectare in the yea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6FE5-4EC9-4239-8B34-73DBD0E9CD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45e4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 </a:t>
            </a:r>
            <a:r>
              <a:rPr b="0" lang="en-US" sz="2500" spc="-1" strike="noStrike">
                <a:solidFill>
                  <a:srgbClr val="645e4c"/>
                </a:solidFill>
                <a:latin typeface="Arial Black"/>
                <a:ea typeface="Arial Black"/>
              </a:rPr>
              <a:t>Equivalence of Carbon per Hectare of Fore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3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Arial Bold"/>
                <a:ea typeface="Arial Bold"/>
              </a:rPr>
              <a:t>The Amazon Fund uses the value of 100 tC/ha (tons of carbon per hectare) of biomass corresponding to 367 tCO2e/ha (tons of carbon dioxide per hectare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3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Arial Bold"/>
                <a:ea typeface="Arial Bold"/>
              </a:rPr>
              <a:t>An extremely conservative value when compared with literature data (from 130 to 320 tC/ha), but adequate to the simplicity intended for the computation method and helpful to its understanding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C08C-3ACF-42FF-B5C5-D551A4C6A7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36440" y="1511280"/>
            <a:ext cx="972504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37DF-66E2-4401-8563-74DAF7B7FB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e4c"/>
                </a:solidFill>
                <a:latin typeface="Arial Black"/>
                <a:ea typeface="Arial Black"/>
              </a:rPr>
              <a:t>RECOG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65200" y="2145960"/>
            <a:ext cx="459756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onors contribute to the Amazon Fund and receive a non-transferable diploma, declaring the corresponding amount of emissions that were reduc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Italic"/>
                <a:ea typeface="Arial Italic"/>
              </a:rPr>
              <a:t>*donations do not generate any carbon cred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120" y="1473120"/>
            <a:ext cx="3918240" cy="520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el Kazatchkine</dc:creator>
  <dc:description/>
  <dc:language>en-US</dc:language>
  <cp:lastModifiedBy/>
  <cp:revision>0</cp:revision>
  <dc:subject/>
  <dc:title>Présentation PowerPoint</dc:title>
</cp:coreProperties>
</file>