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2E0-D548-4391-834E-C7B9E18D139D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130000"/>
              </a:lnSpc>
              <a:spcBef>
                <a:spcPts val="4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300" spc="-1" strike="noStrike">
                <a:solidFill>
                  <a:srgbClr val="000000"/>
                </a:solidFill>
                <a:latin typeface="Calibri"/>
              </a:rPr>
              <a:t>Indonesia Participatory Governance Assessmen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led to an evaluation of its online forest permit system, through a survey of 600 applicants and service providers, to highlight the «high economy costs»  (Uco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30000"/>
              </a:lnSpc>
              <a:spcBef>
                <a:spcPts val="18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00" spc="-1" strike="noStrike">
                <a:solidFill>
                  <a:srgbClr val="000000"/>
                </a:solidFill>
                <a:latin typeface="Calibri"/>
              </a:rPr>
              <a:t>Nepal analyzed drivers of deforestation and degradation through governance le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ns (www.tinyurl.com/nepal-redd-drivers), pointing to how different types of corruption differentially affect different drivers (illegal logging, encroachment of forest lands, road construction, fuelwood collectio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Now using this analysis to prioritize its strategic options for REDD+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8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00" spc="-1" strike="noStrike">
                <a:solidFill>
                  <a:srgbClr val="000000"/>
                </a:solidFill>
                <a:latin typeface="Calibri"/>
              </a:rPr>
              <a:t>The Philippines completed its first REDD+ Corruption Risk Assessment 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Used (with GIZ) to inform national REDD+ safeguards information system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30000"/>
              </a:lnSpc>
              <a:spcBef>
                <a:spcPts val="4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300" spc="-1" strike="noStrike">
                <a:solidFill>
                  <a:srgbClr val="000000"/>
                </a:solidFill>
                <a:latin typeface="Calibri"/>
              </a:rPr>
              <a:t>Preliminary results of Bangladesh Participatory REDD+ Integrity Study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Used within its REDD+ programmatic document (RPP) to understand governance deficits that drives deforestation and degrad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3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Calibri"/>
              </a:rPr>
              <a:t>Bhutan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 currently examining how to reduce corruption in payment for ecosystem services schemes to create a solid and transparent REDD+ benefit distribution syste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4A13-51CC-4312-9499-2AEEA47FE69C}" type="slidenum">
              <a:rPr b="0" lang="fr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AE7-E4AD-4057-B98B-B69AE8FB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5C2-B673-40B2-9842-CE5AA85A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7A0-F2B8-461F-B102-3799F158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404-9968-4EAF-9418-101491B2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FD9F-371B-418B-BAB4-D28C85E1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39F7-0F49-455E-A323-DA5FD19A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80DB-4A09-4E8B-AD08-4953165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A561-08BA-4524-831F-85A8D1A3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DE4F-F3F6-46DC-BDD1-1CFD21DE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6379-3A5C-4761-9B2B-68AA4F7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C1A3-130C-433E-BEDF-D7FB82D0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283-B63F-461E-830D-267ECD14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1EEC-5CBD-4F35-9662-33C10E00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9C23-5126-473A-829D-6C82507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B2F4-9FFD-4072-88C9-8CC14769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57CC-B68F-4EB2-8F1A-6FEF1B44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2EC-C67C-4EE6-841B-675B0603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23A-301A-4BE5-938D-2BE88BB1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BC2-109C-498B-9BE7-4478B96E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EA2-A1C0-4586-9D0A-F70C237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66B-CEA4-4E83-A813-AA6DF58F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C32-2DF6-47B6-8AFE-3A1B6BC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31A-77A9-41BA-9DDF-9BC4FE0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8F4-28BA-46C8-8B5F-57163AF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57B1-8971-4F37-9CD7-B0FDC57D1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 flipV="1">
            <a:off x="-10800" y="-720"/>
            <a:ext cx="915516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3" descr=""/>
          <p:cNvPicPr/>
          <p:nvPr/>
        </p:nvPicPr>
        <p:blipFill>
          <a:blip r:embed="rId2"/>
          <a:stretch/>
        </p:blipFill>
        <p:spPr>
          <a:xfrm>
            <a:off x="0" y="5005440"/>
            <a:ext cx="9144000" cy="3147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461880" y="396720"/>
            <a:ext cx="121464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0" y="295200"/>
            <a:ext cx="9144000" cy="97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2FE-8A10-4DE9-82F1-E405F9348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 flipV="1">
            <a:off x="0" y="-72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0" y="295200"/>
            <a:ext cx="9144000" cy="97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461880" y="396720"/>
            <a:ext cx="12146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924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ia-Pacific REDD+ Analys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Asia-Pacific UN-RED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April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155520" y="-685800"/>
            <a:ext cx="2162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53397" t="38843" r="5940" b="12297"/>
          <a:stretch/>
        </p:blipFill>
        <p:spPr>
          <a:xfrm>
            <a:off x="76320" y="1828800"/>
            <a:ext cx="8923320" cy="372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52280" y="2006640"/>
          <a:ext cx="5334120" cy="336564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84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-REDD National Programme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UN-REDD Partner Countries (Target Suppo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-UN-REDD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mbo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hu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fghani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nglad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o P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pua New Gui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go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yan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lomon Is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e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m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ri Lan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ai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et 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mor-L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nua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562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sessing REDD+ Readiness in 24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616880" y="5334120"/>
            <a:ext cx="147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p: STAT PLA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8600" y="5562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N-REDD Programme in the Asia-Pacific Regional Centre undertook a study to assess the level of progress in REDD+ readiness in the region (“Asia-Pacific REDD+ Analysis”) in 2013 and early 20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ntage of countries with A/C laws and commissions compared with other safegu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28333" t="12665" r="20556" b="33112"/>
          <a:stretch/>
        </p:blipFill>
        <p:spPr>
          <a:xfrm>
            <a:off x="990720" y="1417680"/>
            <a:ext cx="739116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676840" y="3243240"/>
            <a:ext cx="137160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C law: 9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867280" y="3741840"/>
            <a:ext cx="221004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C commission: 8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5181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228600" y="4191120"/>
            <a:ext cx="3048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-corruptio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-corruption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nti Corruption for REDD+ in Asia-Pacif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Key Resul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parency and accountability issues highlighted in Indonesia Participatory Governance Assessment, follow up actions ongo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pal analyzed drivers of deforestation and degradation through governance le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Philippines prioritized corruption risks through completed REDD+ Corruption Risk Assessmen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ults of Bangladesh Participatory REDD+ Integrity Study integrated in REDD+ readiness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hutan examining how to reduce corruption in payment for ecosystem services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Key messag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sessing corruption risks in REDD+ means examining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isting forest governance issues and new risks brought about by REDD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ticipatory approaches to these assessments allow for better uptake of the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storically reluctant Ministries (Forest, Environment)  are assessing the risks and now following up on (some of ) the 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7:20:24Z</dcterms:created>
  <dc:creator>Linda Mumoki</dc:creator>
  <dc:description/>
  <dc:language>en-US</dc:language>
  <cp:lastModifiedBy>Estelle FACH</cp:lastModifiedBy>
  <dcterms:modified xsi:type="dcterms:W3CDTF">2014-06-10T08:10:07Z</dcterms:modified>
  <cp:revision>258</cp:revision>
  <dc:subject/>
  <dc:title>PowerPoint Presentation</dc:title>
</cp:coreProperties>
</file>