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9D12-61E7-491A-B521-E0BEC6FCA3C7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130000"/>
              </a:lnSpc>
              <a:spcBef>
                <a:spcPts val="4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300" spc="-1" strike="noStrike">
                <a:solidFill>
                  <a:srgbClr val="000000"/>
                </a:solidFill>
                <a:latin typeface="Calibri"/>
              </a:rPr>
              <a:t>Indonesia Participatory Governance Assessmen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led to an evaluation of its online forest permit system, through a survey of 600 applicants and service providers, to highlight the «high economy costs»  (Uco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30000"/>
              </a:lnSpc>
              <a:spcBef>
                <a:spcPts val="18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00" spc="-1" strike="noStrike">
                <a:solidFill>
                  <a:srgbClr val="000000"/>
                </a:solidFill>
                <a:latin typeface="Calibri"/>
              </a:rPr>
              <a:t>Nepal analyzed drivers of deforestation and degradation through governance le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ns (www.tinyurl.com/nepal-redd-drivers), pointing to how different types of corruption differentially affect different drivers (illegal logging, encroachment of forest lands, road construction, fuelwood collectio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Now using this analysis to prioritize its strategic options for REDD+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8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00" spc="-1" strike="noStrike">
                <a:solidFill>
                  <a:srgbClr val="000000"/>
                </a:solidFill>
                <a:latin typeface="Calibri"/>
              </a:rPr>
              <a:t>The Philippines completed its first REDD+ Corruption Risk Assessment 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fr-CH" sz="500" spc="-1" strike="noStrike">
                <a:solidFill>
                  <a:srgbClr val="000000"/>
                </a:solidFill>
                <a:latin typeface="Calibri"/>
              </a:rPr>
              <a:t>Used (with GIZ) to inform national REDD+ safeguards information system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30000"/>
              </a:lnSpc>
              <a:spcBef>
                <a:spcPts val="4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300" spc="-1" strike="noStrike">
                <a:solidFill>
                  <a:srgbClr val="000000"/>
                </a:solidFill>
                <a:latin typeface="Calibri"/>
              </a:rPr>
              <a:t>Preliminary results of Bangladesh Participatory REDD+ Integrity Study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Used within its REDD+ programmatic document (RPP) to understand governance deficits that drives deforestation and degrad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3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Calibri"/>
              </a:rPr>
              <a:t>Bhutan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 currently examining how to reduce corruption in payment for ecosystem services schemes to create a solid and transparent REDD+ benefit distribution syste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313E-6FCF-4677-80A5-DA4B6C93A31A}" type="slidenum">
              <a:rPr b="0" lang="fr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D9C-F82A-4419-90DE-AAA2CDD4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052-63E5-43F5-8751-C8A87142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1A3-B714-48AE-AE65-1CCD4267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DD3-25F6-4EFA-B657-DEB08578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32FA-8EDE-48E5-A0EA-3CF7D0C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4BD-6D8E-4A2A-A150-FA835735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CE93-18CB-437D-9F38-CB7C284B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576-CD03-4BAA-ADCF-F251B94A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61C-82C9-483C-A9E7-9BFE38F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6138-9CE9-4D01-98B7-7750C389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1240-DA2A-4F16-B246-B0FE460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1E3-D675-4E43-9872-5516531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610-BB53-40EF-968E-8763233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99E6-1755-41D5-98B7-18606FF6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D4A-BF19-4D40-BB38-8FB13E06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C1C8-F76F-4457-BDC3-76252969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85B9-C712-4DBD-A3AA-AD56A834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6DD-36C5-495C-95D4-D2AD1DC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3D3-2638-4C1A-AE13-1C428063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223-6890-4FFA-851C-BE071A54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638-2FAC-4793-9214-258FC140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F93-7F38-4735-85EB-7AD0588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EBF-24AA-4E78-AD6E-0CFECE63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771-F836-41E6-A34D-5A17EB5D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A9A1-4A6A-4EF4-9E5E-C79EDAE13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 flipV="1">
            <a:off x="-10800" y="-720"/>
            <a:ext cx="915516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3" descr=""/>
          <p:cNvPicPr/>
          <p:nvPr/>
        </p:nvPicPr>
        <p:blipFill>
          <a:blip r:embed="rId2"/>
          <a:stretch/>
        </p:blipFill>
        <p:spPr>
          <a:xfrm>
            <a:off x="0" y="5005440"/>
            <a:ext cx="9144000" cy="3147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461880" y="396720"/>
            <a:ext cx="121464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0" y="295200"/>
            <a:ext cx="9144000" cy="97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8DF0-8E03-4BE7-B1D6-F9C955D8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 flipV="1">
            <a:off x="0" y="-72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0" y="295200"/>
            <a:ext cx="9144000" cy="97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461880" y="396720"/>
            <a:ext cx="12146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924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ia-Pacific REDD+ Analys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Asia-Pacific UN-RED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April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155520" y="-685800"/>
            <a:ext cx="2162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53397" t="38843" r="5940" b="12297"/>
          <a:stretch/>
        </p:blipFill>
        <p:spPr>
          <a:xfrm>
            <a:off x="76320" y="1828800"/>
            <a:ext cx="8923320" cy="372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52280" y="2006640"/>
          <a:ext cx="5334120" cy="336564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84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-REDD National Programme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UN-REDD Partner Countries (Target Suppo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-UN-REDD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mbo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hu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fghani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nglad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o P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pua New Gui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go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yan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lomon Is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e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m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ri Lan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ai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et 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mor-L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nua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562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sessing REDD+ Readiness in 24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616880" y="5334120"/>
            <a:ext cx="147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p: STAT PLA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8600" y="5562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N-REDD Programme in the Asia-Pacific Regional Centre undertook a study to assess the level of progress in REDD+ readiness in the region (“Asia-Pacific REDD+ Analysis”) in 2013 and early 20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ntage of countries with A/C laws and commissions compared with other safegu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28333" t="12665" r="20556" b="33112"/>
          <a:stretch/>
        </p:blipFill>
        <p:spPr>
          <a:xfrm>
            <a:off x="990720" y="1417680"/>
            <a:ext cx="739116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676840" y="3243240"/>
            <a:ext cx="137160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C law: 9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867280" y="3741840"/>
            <a:ext cx="221004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C commission: 8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5181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228600" y="4191120"/>
            <a:ext cx="3048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-corruptio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-corruption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nti Corruption for REDD+ in Asia-Pacif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Key Resul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parency and accountability issues highlighted in Indonesia Participatory Governance Assessment, follow up actions ongo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pal analyzed drivers of deforestation and degradation through governance le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Philippines prioritized corruption risks through completed REDD+ Corruption Risk Assessmen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ults of Bangladesh Participatory REDD+ Integrity Study integrated in REDD+ readiness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hutan examining how to reduce corruption in payment for ecosystem services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Key messag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sessing corruption risks in REDD+ means examining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isting forest governance issues and new risks brought about by REDD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ticipatory approaches to these assessments allow for better uptake of the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storically reluctant Ministries (Forest, Environment)  are assessing the risks and now following up on (some of ) the 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7:20:24Z</dcterms:created>
  <dc:creator>Linda Mumoki</dc:creator>
  <dc:description/>
  <dc:language>en-US</dc:language>
  <cp:lastModifiedBy>Estelle FACH</cp:lastModifiedBy>
  <dcterms:modified xsi:type="dcterms:W3CDTF">2014-06-10T08:10:07Z</dcterms:modified>
  <cp:revision>258</cp:revision>
  <dc:subject/>
  <dc:title>PowerPoint Presentation</dc:title>
</cp:coreProperties>
</file>