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756C-C691-4C39-97E6-2EFBA8891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FD90-FA40-4399-8B5D-9F6A08B65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59D-39EE-4603-8671-949ABDD2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1B0-9705-4996-9AA3-56C82736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884-5858-416D-B9E2-1B523AD9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67D-BD41-4990-8C9A-EF739FF1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F0B-5821-481E-8BCF-928F3EA6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7AE-7612-42E0-AB11-E4B2909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44F-5875-4B4F-B402-C3650550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2496-693D-43F3-BF9E-8B5125F4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FEFF-4698-4EB5-B2CA-EE757954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E912-18B6-40A5-B650-7D4CC63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C9DC-4AFB-488B-864D-B7243B6B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A7F-DC7B-49FE-88FC-44560D4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4338-DF33-4991-ACDC-2E4F408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E63B-EFD6-4661-947A-BC6FDEF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C96-852C-4D46-A488-98C5E4C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B8C-871B-4434-912D-7365713E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52B-0276-405F-9400-1BA408A2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35CA-29B1-4AC7-81D6-1C012886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216D-B0F0-42BB-86F1-94A1B66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86B6-138A-4044-B707-89CD144C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E01E-1C3C-4676-AFA0-CACAACDD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D5B7-916E-420C-A4F2-238FE6CC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15C-821A-4372-8C37-CA825A6A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3AA2-904F-48D6-B1EE-AE9E9D6C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CC28-C0E3-4EEC-8BD9-285F49DD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3B25-12EE-41EA-8F90-CABDD0A0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D2E4-4218-4E66-92C0-F069AB2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659B-BF12-401A-B234-99964F3A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CCDE-BC8F-498A-8829-CE5E678E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AEE8-9E94-42E4-B304-56E56824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2EBAE-6EEB-4EDB-8883-F4F0C87F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1C5D-2098-492C-B1C9-251277A4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4F66-6D40-419E-B080-B3306EC8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FAB-570F-49A0-8511-4E0C795F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EB48-78CC-41A6-BFA4-232981AC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01CE-1235-438B-A51B-69F63A5D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4B4D-B21C-45A0-A2CE-4F94F53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3F35-8EBF-413F-8060-81620CE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B8C3-144A-4C31-A4A5-1798C6C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FB9E-F33E-4688-A8B4-D238427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A4EB-4BC1-4799-940F-B505164B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4828-B305-41B8-A4D7-086C740D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E793E-22DB-4C76-9EA8-AA691CC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470-DA2D-4C5B-93A8-2636E3CA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B08-7BD9-47BE-9CFD-08FD4BA3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E59-B075-4B54-976A-1BA49C9A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55C-9275-4944-86B0-AB2EDC3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4E5-F51F-4966-86C8-F5C3BD5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8FEF-1AB0-400C-9CBA-A0AF0A5FB7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03040"/>
              <a:ext cx="9921600" cy="648000"/>
              <a:chOff x="-20520" y="203040"/>
              <a:chExt cx="9921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8974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0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46600"/>
              <a:ext cx="9946080" cy="564480"/>
              <a:chOff x="-20520" y="246600"/>
              <a:chExt cx="9946080" cy="56448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960" y="246600"/>
                <a:ext cx="9929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03040"/>
              <a:ext cx="9921600" cy="648000"/>
              <a:chOff x="-20520" y="203040"/>
              <a:chExt cx="9921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8974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0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46600"/>
              <a:ext cx="9946080" cy="564480"/>
              <a:chOff x="-20520" y="246600"/>
              <a:chExt cx="9946080" cy="56448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960" y="246600"/>
                <a:ext cx="9929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D3E7-DCF2-432D-8D5C-1C233A8EC0E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03040"/>
              <a:ext cx="9921600" cy="648000"/>
              <a:chOff x="-20520" y="203040"/>
              <a:chExt cx="9921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" y="203040"/>
                <a:ext cx="98974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0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46600"/>
              <a:ext cx="9946080" cy="564480"/>
              <a:chOff x="-20520" y="246600"/>
              <a:chExt cx="9946080" cy="56448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960" y="246600"/>
                <a:ext cx="9929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869E-C26E-4E9D-AD78-0D6C28EF76C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/>
            <a:ahLst/>
            <a:rect l="l" t="t" r="r" b="b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FFD2-A42A-4E46-BEDC-082F8D4184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ent Placeholder 2" descr=""/>
          <p:cNvPicPr/>
          <p:nvPr/>
        </p:nvPicPr>
        <p:blipFill>
          <a:blip r:embed="rId1"/>
          <a:stretch/>
        </p:blipFill>
        <p:spPr>
          <a:xfrm>
            <a:off x="493560" y="762120"/>
            <a:ext cx="9083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WORKING OBJECTIVES (CONT’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3712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assess the existence and effectiveness of an anti-corruption strate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assess the existence and effectiveness of mechanisms established for meaningful participation by forest-dependent communities in the implementation of REDD+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assess the existence and implementation of the benefit distribution system for REDD+ in terms of its transparency and fairness in distribution of benefits to the concerned stakehold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FOCAL ARE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6761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report is based on a study of four key Sub-themes identified by UN-REDD as crucial to understanding of governance within the context of REDD+. The topics explored during the research exercise are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) stakeholders perceived gains and losses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) governance risks and possible safeguards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) the role of the private sector and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) existing communication system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2860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r>
              <a:rPr b="1" i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METHODS</a:t>
            </a:r>
            <a:r>
              <a:rPr b="1" i="1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066320"/>
            <a:ext cx="916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ocal group discussion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-depth interviews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keholders’ survey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ey informant interviews a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esk review.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checklist was developed based on REDD+ PGA key principles of accountability, participation, transparency and legitimacy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9360">
            <a:solidFill>
              <a:srgbClr val="0073a1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FINDINGS FROM THE PRELIMINARY PGA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500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is findings of the report is organized under the four sub-themes explored during the PGA exercise which include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keholders’ Perceived Gains and Losses</a:t>
            </a: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Governance Risk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ivate Sector Drivers of Deforestation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mmunication System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3"/>
          <p:cNvGraphicFramePr/>
          <p:nvPr/>
        </p:nvGraphicFramePr>
        <p:xfrm>
          <a:off x="0" y="0"/>
          <a:ext cx="9982080" cy="682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8208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loud 5"/>
          <p:cNvSpPr/>
          <p:nvPr/>
        </p:nvSpPr>
        <p:spPr>
          <a:xfrm>
            <a:off x="3505320" y="3657600"/>
            <a:ext cx="3276360" cy="1905120"/>
          </a:xfrm>
          <a:prstGeom prst="pie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 Black"/>
              </a:rPr>
              <a:t>AN OVER VIE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315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5334120" y="628488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nstantia"/>
              </a:rPr>
              <a:t>Flow chart of  PGA development proc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0" y="0"/>
          <a:ext cx="9906120" cy="68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Box 5"/>
          <p:cNvSpPr/>
          <p:nvPr/>
        </p:nvSpPr>
        <p:spPr>
          <a:xfrm>
            <a:off x="-41400" y="628020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nstantia"/>
              </a:rPr>
              <a:t>Flow chart of  PGA development process continu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2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90522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908064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BACKGROUND AND CONTEXT OF STUDY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500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REDD+ has been designed for a sound governance system central to the success of financing  REDD+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REDD+ takes place in forest governance contexts characterized by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illegal deforestation 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Weak and inefficient institution for forest managemen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BACKGROUND AND CONTEXT (CONT’D)</a:t>
            </a:r>
            <a:r>
              <a:rPr b="1" lang="en-US" sz="54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lack of appropriate policies on forest management,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Poor law enforcement,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Elite capture of forest lands and benefits,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Displacement of forest communities, and other social and governance issu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Ambiguous land tenure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poor regulation on the use of forest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3700" spc="-1" strike="noStrike">
                <a:solidFill>
                  <a:srgbClr val="000000"/>
                </a:solidFill>
                <a:latin typeface="Constantia"/>
              </a:rPr>
              <a:t>The above has increased the vulnerability of forests and their communitie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PRINCIPLES AND CRITER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8960"/>
            <a:ext cx="90806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justifies the need for PGA assessment in order to promote appropriate social safeguards in the event of REDD financ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ponse to these concerns, the UN-RED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developed global Social &amp; Environmental Principles and Criteria (SEPC) based on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1 on Democratic Govern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s that REDD+ programmes should ‘comply with standards of democratic governance’, and proposes the following three criteria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PRINCIPLES AND CRITER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523520"/>
            <a:ext cx="9524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Criterion 1 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nsure integrity of fiduciary and fund management syste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Criterion 2 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: I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mplement activities in a transparent and accountable mann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Criterion 3 :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nsure broad-based stakeholder participati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PRINCIPLES AND CRITERION (CONT’D</a:t>
            </a: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990720"/>
            <a:ext cx="9258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Principle 2 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on Stakeholder livelihood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states that the Programme should ‘carefully assess potential adverse impacts on stakeholders’ long-term livelihoods and mitigate effects where appropriate.’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ollowing criteria are proposed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4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: Promote gender eq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5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Avoid involuntary resettl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6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 Respect traditional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erion 7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Develop equitable benefit distribution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151920"/>
            <a:ext cx="908028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STUDY APPROAC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000" y="91404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PGA exercise rationally assessed the stakeholders’ level of awareness, perception and readiness for the REDD+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apping exercise was carried out in the three pilot communitie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suk Mba in Akpabuyo Local Government Area (LGA) from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vember 2012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ko Esai (Akamkpa LGA) from 2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vember 2012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aunchor (Boki LGA) from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vember 2012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163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PGA PRE-FIELD ACTIVITI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295280"/>
            <a:ext cx="9080280" cy="518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etings by team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ion on PGA exercise based on the key context of REDD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methodology with recourse to the different sub-the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cation of relevant stakehold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igning roles and responsibilities to team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ting targets to achieve the objectives of P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256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WORKING OBJ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838080"/>
            <a:ext cx="9182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The entire PGA process for Nigeria is designed to help achieve the following objective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To assess the existence and implementation of adequate policies and legislations necessary for the effective implementation of REDD+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To assess the institutional capacity of government agencies at federal, state and local levels to implement the REDD+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13:07Z</dcterms:created>
  <dc:creator>ASUQUO</dc:creator>
  <dc:description/>
  <dc:language>en-US</dc:language>
  <cp:lastModifiedBy>Mr &amp; Mrs Princewill</cp:lastModifiedBy>
  <dcterms:modified xsi:type="dcterms:W3CDTF">2013-01-16T11:47:30Z</dcterms:modified>
  <cp:revision>31</cp:revision>
  <dc:subject/>
  <dc:title>Slide 1</dc:title>
</cp:coreProperties>
</file>