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3D25-3E25-454D-BD6C-DAF85D996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789E-7B80-47FA-A0E7-B84BE2DD2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11D8-9B7A-4D72-A7C9-03FA6209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B81-52DD-46CD-95A4-FAAF0717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1B07-6FE9-492D-ABAB-F0A3DAA5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2F58-0DAA-4F98-9107-3DED2073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4014-3AD8-445B-8C69-57553C1C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3F2C-7EE3-4973-A29A-DF5EAFAA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9D38-F8F4-4532-A3D1-5A0A134F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7A9C-4813-4001-BCF1-829D3CB7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8414-57A4-4EF4-8B83-EDEA3366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62D5-F0B1-4F68-9538-F19FD026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A812-0C57-4A27-A4FC-87F53C30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A887-A640-4CDA-BCE0-FAC0E9E6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6053-7040-4B5C-9328-E6D44D21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AE83-E4A2-4476-9535-46390011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D7E4-10DA-4415-8CF9-FDBB0743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6F86-A2CF-4A35-8C00-27E0DFE5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FE55-FE2D-4630-8C3D-D00E688A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F65FE-2E79-4ED8-ADD3-626FEA88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86660-329A-4EB0-A2F1-49BB1896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0F708-5701-4074-821E-C2C191AB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12ED0-1114-4B60-9FB9-3412E75F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70B24-22C2-41E7-BD2F-2909F537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F308-0876-4B13-9DD3-66AC8722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6854C-69A9-49F8-8C67-471A8EEA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95E23-5385-4762-9171-3699B3D3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B981A-8231-4691-9204-24EDC13A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B0058-ED21-46A9-9311-433B5CE4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C69B8-C752-4C18-9632-4D3402C3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57FBB-6F60-44DC-931B-00A03B4B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454AE-68C8-44EA-8746-8464ADCA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266B8-A50F-45A1-AE4D-296C74C4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E666D-0FAE-46EF-BB9F-0E89AC7C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A5BB4-482A-4101-BA83-CE1BF28C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CF4-A3EA-418B-ABB5-7AFCA6A2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41B4D-FE77-430D-8C32-85804A47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414C3-D303-4DF0-B0B2-D43839A2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28C4E-58C3-4E8A-8748-F4407690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0FDA1-A323-42C8-A26C-122E20A0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92578-6141-47EC-95CF-B9BBC65F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21900-8DDE-4361-9ABD-3FD9639F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D2518-25A1-4BC6-8ED1-270977CC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E5319-4207-4074-958A-1F17E7A9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BC701-625F-4084-A241-07D6CCA1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74B-50F0-4ED3-A6E0-2B5E924B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81D-5AA4-4473-A4AB-8BE80D34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6BA-532F-4BC2-9797-6FE5B6DC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339-2B92-43CA-8AED-C87F68A2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D42-80B0-4392-96A6-0E3D8227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746600" y="-792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92E3-1535-4A0F-B7B8-8B367B8CAAD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20520" y="203040"/>
              <a:ext cx="9921600" cy="648000"/>
              <a:chOff x="-20520" y="203040"/>
              <a:chExt cx="9921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0" y="203040"/>
                <a:ext cx="98974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490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20520" y="246600"/>
              <a:ext cx="9946080" cy="564480"/>
              <a:chOff x="-20520" y="246600"/>
              <a:chExt cx="9946080" cy="56448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960" y="246600"/>
                <a:ext cx="992952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34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746600" y="-792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20520" y="203040"/>
              <a:ext cx="9921600" cy="648000"/>
              <a:chOff x="-20520" y="203040"/>
              <a:chExt cx="9921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0" y="203040"/>
                <a:ext cx="98974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490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20520" y="246600"/>
              <a:ext cx="9946080" cy="564480"/>
              <a:chOff x="-20520" y="246600"/>
              <a:chExt cx="9946080" cy="56448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960" y="246600"/>
                <a:ext cx="992952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34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E4D1-A786-472E-9E15-C34C1441DCB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746600" y="-792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20520" y="203040"/>
              <a:ext cx="9921600" cy="648000"/>
              <a:chOff x="-20520" y="203040"/>
              <a:chExt cx="9921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0" y="203040"/>
                <a:ext cx="98974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490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20520" y="246600"/>
              <a:ext cx="9946080" cy="564480"/>
              <a:chOff x="-20520" y="246600"/>
              <a:chExt cx="9946080" cy="56448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960" y="246600"/>
                <a:ext cx="992952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34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26F2-A6AE-4EB6-BCD7-F29D8CC1CD7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428640" y="1107360"/>
            <a:ext cx="5695920" cy="4114800"/>
          </a:xfrm>
          <a:custGeom>
            <a:avLst/>
            <a:gdLst/>
            <a:ahLst/>
            <a:rect l="l" t="t" r="r" b="b"/>
            <a:pathLst>
              <a:path w="5695950" h="4114800">
                <a:moveTo>
                  <a:pt x="0" y="0"/>
                </a:moveTo>
                <a:lnTo>
                  <a:pt x="5545924" y="0"/>
                </a:lnTo>
                <a:lnTo>
                  <a:pt x="5695950" y="150026"/>
                </a:lnTo>
                <a:lnTo>
                  <a:pt x="569595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670600" y="5358960"/>
            <a:ext cx="1681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10800" y="581544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746600" y="621900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749800" y="6356520"/>
            <a:ext cx="660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0E58-C157-4EE8-8E4C-10469CD45CC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Content Placeholder 2" descr=""/>
          <p:cNvPicPr/>
          <p:nvPr/>
        </p:nvPicPr>
        <p:blipFill>
          <a:blip r:embed="rId1"/>
          <a:stretch/>
        </p:blipFill>
        <p:spPr>
          <a:xfrm>
            <a:off x="493560" y="762120"/>
            <a:ext cx="90838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4617b"/>
                </a:solidFill>
                <a:uFillTx/>
                <a:latin typeface="Calibri"/>
              </a:rPr>
              <a:t>WORKING OBJECTIVES (CONT’D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3712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o assess the existence and effectiveness of an anti-corruption strateg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o assess the existence and effectiveness of mechanisms established for meaningful participation by forest-dependent communities in the implementation of REDD+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o assess the existence and implementation of the benefit distribution system for REDD+ in terms of its transparency and fairness in distribution of benefits to the concerned stakeholder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4617b"/>
                </a:solidFill>
                <a:uFillTx/>
                <a:latin typeface="Calibri"/>
              </a:rPr>
              <a:t>FOCAL AREA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6761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report is based on a study of four key Sub-themes identified by UN-REDD as crucial to understanding of governance within the context of REDD+. The topics explored during the research exercise are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) stakeholders perceived gains and losses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) governance risks and possible safeguards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) the role of the private sector and 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) existing communication systems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2860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4500"/>
            </a:br>
            <a:r>
              <a:rPr b="1" i="1" lang="en-US" sz="4500" spc="-1" strike="noStrike" u="sng">
                <a:solidFill>
                  <a:srgbClr val="04617b"/>
                </a:solidFill>
                <a:uFillTx/>
                <a:latin typeface="Calibri"/>
              </a:rPr>
              <a:t>METHODS</a:t>
            </a:r>
            <a:r>
              <a:rPr b="1" i="1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95000" y="1066320"/>
            <a:ext cx="9163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ocal group discussion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n-depth interviews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akeholders’ survey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key informant interviews an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Desk review.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 checklist was developed based on REDD+ PGA key principles of accountability, participation, transparency and legitimacy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09480"/>
          </a:xfrm>
          <a:prstGeom prst="rect">
            <a:avLst/>
          </a:prstGeom>
          <a:noFill/>
          <a:ln w="9360">
            <a:solidFill>
              <a:srgbClr val="0073a1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FINDINGS FROM THE PRELIMINARY PGA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95000" y="13716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68000" indent="-46800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is findings of the report is organized under the four sub-themes explored during the PGA exercise which include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akeholders’ Perceived Gains and Losses</a:t>
            </a:r>
            <a:r>
              <a:rPr b="0" i="1" lang="en-US" sz="3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Governance Risks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rivate Sector Drivers of Deforestation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ommunication System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3"/>
          <p:cNvGraphicFramePr/>
          <p:nvPr/>
        </p:nvGraphicFramePr>
        <p:xfrm>
          <a:off x="0" y="0"/>
          <a:ext cx="9982080" cy="682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82080" cy="682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Cloud 5"/>
          <p:cNvSpPr/>
          <p:nvPr/>
        </p:nvSpPr>
        <p:spPr>
          <a:xfrm>
            <a:off x="3505320" y="3657600"/>
            <a:ext cx="3276360" cy="1905120"/>
          </a:xfrm>
          <a:prstGeom prst="pie">
            <a:avLst/>
          </a:prstGeom>
          <a:solidFill>
            <a:srgbClr val="10cf9b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453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 Black"/>
              </a:rPr>
              <a:t>AN OVER VIE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0" y="-457200"/>
            <a:ext cx="9524880" cy="73152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5334120" y="6284880"/>
            <a:ext cx="47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nstantia"/>
              </a:rPr>
              <a:t>Flow chart of  PGA development proces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3" name="Object 4"/>
          <p:cNvGraphicFramePr/>
          <p:nvPr/>
        </p:nvGraphicFramePr>
        <p:xfrm>
          <a:off x="0" y="0"/>
          <a:ext cx="9906120" cy="68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Box 5"/>
          <p:cNvSpPr/>
          <p:nvPr/>
        </p:nvSpPr>
        <p:spPr>
          <a:xfrm>
            <a:off x="-41400" y="6280200"/>
            <a:ext cx="54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nstantia"/>
              </a:rPr>
              <a:t>Flow chart of  PGA development process continu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ontent Placeholder 2" descr=""/>
          <p:cNvPicPr/>
          <p:nvPr/>
        </p:nvPicPr>
        <p:blipFill>
          <a:blip r:embed="rId1"/>
          <a:stretch/>
        </p:blipFill>
        <p:spPr>
          <a:xfrm>
            <a:off x="493560" y="201600"/>
            <a:ext cx="90522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908064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BACKGROUND AND CONTEXT OF STUDY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95000" y="11430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10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REDD+ has been designed for a sound governance system central to the success of financing  REDD+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0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REDD+ takes place in forest governance contexts characterized by: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0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illegal deforestation 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0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Weak and inefficient institution for forest managemen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BACKGROUND AND CONTEXT (CONT’D)</a:t>
            </a:r>
            <a:r>
              <a:rPr b="1" lang="en-US" sz="5400" spc="-1" strike="noStrike" u="sng">
                <a:solidFill>
                  <a:srgbClr val="04617b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5000" y="11430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Constantia"/>
              </a:rPr>
              <a:t>lack of appropriate policies on forest management,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Constantia"/>
              </a:rPr>
              <a:t>Poor law enforcement,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Constantia"/>
              </a:rPr>
              <a:t>Elite capture of forest lands and benefits,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Constantia"/>
              </a:rPr>
              <a:t>Displacement of forest communities, and other social and governance issue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Constantia"/>
              </a:rPr>
              <a:t>Ambiguous land tenure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Constantia"/>
              </a:rPr>
              <a:t>poor regulation on the use of forest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3700" spc="-1" strike="noStrike">
                <a:solidFill>
                  <a:srgbClr val="000000"/>
                </a:solidFill>
                <a:latin typeface="Constantia"/>
              </a:rPr>
              <a:t>The above has increased the vulnerability of forests and their communities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PRINCIPLES AND CRITERION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218960"/>
            <a:ext cx="90806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8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justifies the need for PGA assessment in order to promote appropriate social safeguards in the event of REDD financ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response to these concerns, the UN-REDD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 developed global Social &amp; Environmental Principles and Criteria (SEPC) based on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1 on Democratic Governan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s that REDD+ programmes should ‘comply with standards of democratic governance’, and proposes the following three criteria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30120" y="151920"/>
            <a:ext cx="908064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4617b"/>
                </a:solidFill>
                <a:uFillTx/>
                <a:latin typeface="Calibri"/>
              </a:rPr>
              <a:t>PRINCIPLES AND CRITER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28600" y="1523520"/>
            <a:ext cx="9524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Constantia"/>
              </a:rPr>
              <a:t>Criterion 1 </a:t>
            </a: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Ensure integrity of fiduciary and fund management syste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Constantia"/>
              </a:rPr>
              <a:t>Criterion 2 </a:t>
            </a: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: I</a:t>
            </a: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mplement activities in a transparent and accountable mann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Constantia"/>
              </a:rPr>
              <a:t>Criterion 3 :</a:t>
            </a: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Ensure broad-based stakeholder participation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4617b"/>
                </a:solidFill>
                <a:uFillTx/>
                <a:latin typeface="Calibri"/>
              </a:rPr>
              <a:t>PRINCIPLES AND CRITERION (CONT’D</a:t>
            </a:r>
            <a:r>
              <a:rPr b="1" lang="en-US" sz="4500" spc="-1" strike="noStrike" u="sng">
                <a:solidFill>
                  <a:srgbClr val="04617b"/>
                </a:solidFill>
                <a:uFillTx/>
                <a:latin typeface="Calibri"/>
              </a:rPr>
              <a:t>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95000" y="990720"/>
            <a:ext cx="9258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 u="sng">
                <a:solidFill>
                  <a:srgbClr val="000000"/>
                </a:solidFill>
                <a:uFillTx/>
                <a:latin typeface="Constantia"/>
              </a:rPr>
              <a:t>Principle 2  </a:t>
            </a:r>
            <a:r>
              <a:rPr b="0" i="1" lang="en-GB" sz="2600" spc="-1" strike="noStrike">
                <a:solidFill>
                  <a:srgbClr val="000000"/>
                </a:solidFill>
                <a:latin typeface="Constantia"/>
              </a:rPr>
              <a:t>on Stakeholder livelihoods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states that the Programme should ‘carefully assess potential adverse impacts on stakeholders’ long-term livelihoods and mitigate effects where appropriate.’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following criteria are proposed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Constantia"/>
              </a:rPr>
              <a:t>Criterion 4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: Promote gender equa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Constantia"/>
              </a:rPr>
              <a:t>Criterion 5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: Avoid involuntary resettl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Constantia"/>
              </a:rPr>
              <a:t>Criterion 6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:  Respect traditional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Constantia"/>
              </a:rPr>
              <a:t>Criterion 7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: Develop equitable benefit distribution syste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2560" y="151920"/>
            <a:ext cx="908028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4617b"/>
                </a:solidFill>
                <a:uFillTx/>
                <a:latin typeface="Calibri"/>
              </a:rPr>
              <a:t>STUDY APPROACH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5000" y="914040"/>
            <a:ext cx="89154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6a3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00b050"/>
                </a:solidFill>
                <a:latin typeface="Constantia"/>
              </a:rPr>
              <a:t>PGA exercise rationally assessed the stakeholders’ level of awareness, perception and readiness for the REDD+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mapping exercise was carried out in the three pilot communities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suk Mba in Akpabuyo Local Government Area (LGA) from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o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November 2012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ko Esai (Akamkpa LGA) from 2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o 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November 2012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aunchor (Boki LGA) from 2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nstantia"/>
              </a:rPr>
              <a:t>th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November 2012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9163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4617b"/>
                </a:solidFill>
                <a:uFillTx/>
                <a:latin typeface="Calibri"/>
              </a:rPr>
              <a:t>PGA PRE-FIELD ACTIVITIE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95000" y="1295280"/>
            <a:ext cx="9080280" cy="518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etings by team memb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cussion on PGA exercise based on the key context of REDD+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ing methodology with recourse to the different sub-the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dentification of relevant stakehold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igning roles and responsibilities to team memb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tting targets to achieve the objectives of P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earch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256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4617b"/>
                </a:solidFill>
                <a:uFillTx/>
                <a:latin typeface="Calibri"/>
              </a:rPr>
              <a:t>WORKING OBJECTIV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28600" y="838080"/>
            <a:ext cx="91821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nstantia"/>
              </a:rPr>
              <a:t>The entire PGA process for Nigeria is designed to help achieve the following objectives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nstantia"/>
              </a:rPr>
              <a:t>To assess the existence and implementation of adequate policies and legislations necessary for the effective implementation of REDD+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nstantia"/>
              </a:rPr>
              <a:t>To assess the institutional capacity of government agencies at federal, state and local levels to implement the REDD+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07:13:07Z</dcterms:created>
  <dc:creator>ASUQUO</dc:creator>
  <dc:description/>
  <dc:language>en-US</dc:language>
  <cp:lastModifiedBy>Mr &amp; Mrs Princewill</cp:lastModifiedBy>
  <dcterms:modified xsi:type="dcterms:W3CDTF">2013-01-16T11:47:30Z</dcterms:modified>
  <cp:revision>31</cp:revision>
  <dc:subject/>
  <dc:title>Slide 1</dc:title>
</cp:coreProperties>
</file>